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23.wmf" ContentType="image/x-wmf"/>
  <Override PartName="/ppt/media/image21.jpeg" ContentType="image/jpeg"/>
  <Override PartName="/ppt/media/image16.png" ContentType="image/png"/>
  <Override PartName="/ppt/media/image19.wmf" ContentType="image/x-wmf"/>
  <Override PartName="/ppt/media/image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207E-2961-4370-A171-F4593773941E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ángulo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e Teórica Bolilla 10 (cont) Síntesis de Proteínas y Alimentos Trnasgén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F9EE-D9CC-4127-8828-F43AC0872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415F-B993-4673-AE69-709DFB78C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106F-4212-4D56-96BE-9D2E07A1E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ángulo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lase Teórica Bolilla 9: Acidos Nucle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2169-DA3E-4FF7-AB0B-7EB5AD27AF8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F6CC-3C24-4BD8-B3AE-92875449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5E4A-28ED-4FBF-BEAC-05BCF13D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A8B0-A259-420F-B68F-63DF55DF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DCE8-4F06-4E97-9B0F-6352F67F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BB92-951C-4AE6-913A-1BBA0489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4689-ABBB-423B-94AF-156FE542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2FCA-F1C3-4D78-B44C-FBB9F6BD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4317-24B0-417B-8F93-8F450FB8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A58A-430E-4A03-BED8-41B51D43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F6FB-68C1-42CE-9FE7-91D5F65F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B440-7788-4DAC-B97D-6B57DDC3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E6E4-DA39-4AC4-8629-B64CCE6A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854A-F7DC-45F6-BC26-831F21E06ACD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Bolilla 11:</a:t>
            </a:r>
            <a:r>
              <a:rPr b="0" lang="es-AR" sz="3200" spc="-1" strike="noStrike" u="sng">
                <a:solidFill>
                  <a:srgbClr val="000000"/>
                </a:solidFill>
                <a:uFillTx/>
                <a:latin typeface="Calibri"/>
              </a:rPr>
              <a:t> Ácidos nucle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DNA: Características estructural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REPLICACIÓN del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Concepto de mutaciones y mutáge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Flujo de la información genética: Tipos de RNA: mensajeros, ribosomales y de transferen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TRANSCRIPCIÓN: Etapas. Importancia de los procesos de maduración, intrones y exon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TRADUCCION: Características generales de la Síntesis de proteín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Nociones sobre alimentos transgén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05560" cy="83808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Proceso de Replicación del AD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8" name="Grupo 56"/>
          <p:cNvGrpSpPr/>
          <p:nvPr/>
        </p:nvGrpSpPr>
        <p:grpSpPr>
          <a:xfrm>
            <a:off x="1523880" y="1371600"/>
            <a:ext cx="5181480" cy="4876560"/>
            <a:chOff x="1523880" y="1371600"/>
            <a:chExt cx="5181480" cy="4876560"/>
          </a:xfrm>
        </p:grpSpPr>
        <p:grpSp>
          <p:nvGrpSpPr>
            <p:cNvPr id="349" name="Grupo 8"/>
            <p:cNvGrpSpPr/>
            <p:nvPr/>
          </p:nvGrpSpPr>
          <p:grpSpPr>
            <a:xfrm>
              <a:off x="2264400" y="1691640"/>
              <a:ext cx="295560" cy="635040"/>
              <a:chOff x="2264400" y="1691640"/>
              <a:chExt cx="295560" cy="635040"/>
            </a:xfrm>
          </p:grpSpPr>
          <p:sp>
            <p:nvSpPr>
              <p:cNvPr id="350" name="Línea 9"/>
              <p:cNvSpPr/>
              <p:nvPr/>
            </p:nvSpPr>
            <p:spPr>
              <a:xfrm>
                <a:off x="2264400" y="1691640"/>
                <a:ext cx="0" cy="6350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ínea 10"/>
              <p:cNvSpPr/>
              <p:nvPr/>
            </p:nvSpPr>
            <p:spPr>
              <a:xfrm>
                <a:off x="2558880" y="1691640"/>
                <a:ext cx="1080" cy="6350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upo 11"/>
            <p:cNvGrpSpPr/>
            <p:nvPr/>
          </p:nvGrpSpPr>
          <p:grpSpPr>
            <a:xfrm>
              <a:off x="1967760" y="3302280"/>
              <a:ext cx="887760" cy="1135800"/>
              <a:chOff x="1967760" y="3302280"/>
              <a:chExt cx="887760" cy="1135800"/>
            </a:xfrm>
          </p:grpSpPr>
          <p:sp>
            <p:nvSpPr>
              <p:cNvPr id="353" name="Línea 12"/>
              <p:cNvSpPr/>
              <p:nvPr/>
            </p:nvSpPr>
            <p:spPr>
              <a:xfrm>
                <a:off x="2263680" y="3302280"/>
                <a:ext cx="1080" cy="424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ínea 13"/>
              <p:cNvSpPr/>
              <p:nvPr/>
            </p:nvSpPr>
            <p:spPr>
              <a:xfrm>
                <a:off x="2559600" y="3302280"/>
                <a:ext cx="1080" cy="424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ínea 14"/>
              <p:cNvSpPr/>
              <p:nvPr/>
            </p:nvSpPr>
            <p:spPr>
              <a:xfrm flipH="1">
                <a:off x="1967760" y="3726360"/>
                <a:ext cx="295920" cy="6361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ínea 15"/>
              <p:cNvSpPr/>
              <p:nvPr/>
            </p:nvSpPr>
            <p:spPr>
              <a:xfrm>
                <a:off x="2559600" y="3726360"/>
                <a:ext cx="295920" cy="6361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Línea 16"/>
              <p:cNvSpPr/>
              <p:nvPr/>
            </p:nvSpPr>
            <p:spPr>
              <a:xfrm flipH="1">
                <a:off x="2163600" y="3948120"/>
                <a:ext cx="209160" cy="4870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Línea 17"/>
              <p:cNvSpPr/>
              <p:nvPr/>
            </p:nvSpPr>
            <p:spPr>
              <a:xfrm>
                <a:off x="2468160" y="3947400"/>
                <a:ext cx="200520" cy="4906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Grupo 18"/>
            <p:cNvGrpSpPr/>
            <p:nvPr/>
          </p:nvGrpSpPr>
          <p:grpSpPr>
            <a:xfrm>
              <a:off x="1884600" y="5298480"/>
              <a:ext cx="1054440" cy="635040"/>
              <a:chOff x="1884600" y="5298480"/>
              <a:chExt cx="1054440" cy="635040"/>
            </a:xfrm>
          </p:grpSpPr>
          <p:grpSp>
            <p:nvGrpSpPr>
              <p:cNvPr id="360" name="Grupo 19"/>
              <p:cNvGrpSpPr/>
              <p:nvPr/>
            </p:nvGrpSpPr>
            <p:grpSpPr>
              <a:xfrm>
                <a:off x="1884600" y="5298480"/>
                <a:ext cx="231120" cy="635040"/>
                <a:chOff x="1884600" y="5298480"/>
                <a:chExt cx="231120" cy="635040"/>
              </a:xfrm>
            </p:grpSpPr>
            <p:sp>
              <p:nvSpPr>
                <p:cNvPr id="361" name="Línea 20"/>
                <p:cNvSpPr/>
                <p:nvPr/>
              </p:nvSpPr>
              <p:spPr>
                <a:xfrm>
                  <a:off x="1884600" y="5298480"/>
                  <a:ext cx="0" cy="6350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Línea 21"/>
                <p:cNvSpPr/>
                <p:nvPr/>
              </p:nvSpPr>
              <p:spPr>
                <a:xfrm>
                  <a:off x="2114640" y="5298480"/>
                  <a:ext cx="1080" cy="63504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Grupo 22"/>
              <p:cNvGrpSpPr/>
              <p:nvPr/>
            </p:nvGrpSpPr>
            <p:grpSpPr>
              <a:xfrm>
                <a:off x="2707920" y="5298480"/>
                <a:ext cx="231120" cy="635040"/>
                <a:chOff x="2707920" y="5298480"/>
                <a:chExt cx="231120" cy="635040"/>
              </a:xfrm>
            </p:grpSpPr>
            <p:sp>
              <p:nvSpPr>
                <p:cNvPr id="364" name="Línea 23"/>
                <p:cNvSpPr/>
                <p:nvPr/>
              </p:nvSpPr>
              <p:spPr>
                <a:xfrm>
                  <a:off x="2707920" y="5298480"/>
                  <a:ext cx="0" cy="63504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ínea 24"/>
                <p:cNvSpPr/>
                <p:nvPr/>
              </p:nvSpPr>
              <p:spPr>
                <a:xfrm>
                  <a:off x="2937960" y="5298480"/>
                  <a:ext cx="1080" cy="6350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" name="Línea 25"/>
            <p:cNvSpPr/>
            <p:nvPr/>
          </p:nvSpPr>
          <p:spPr>
            <a:xfrm>
              <a:off x="2412000" y="2539080"/>
              <a:ext cx="0" cy="63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ínea 26"/>
            <p:cNvSpPr/>
            <p:nvPr/>
          </p:nvSpPr>
          <p:spPr>
            <a:xfrm>
              <a:off x="2412000" y="4561560"/>
              <a:ext cx="3240" cy="637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Cuadro de texto 27"/>
            <p:cNvSpPr/>
            <p:nvPr/>
          </p:nvSpPr>
          <p:spPr>
            <a:xfrm>
              <a:off x="3152520" y="1904400"/>
              <a:ext cx="3404160" cy="88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ADN de doble cadena orig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Cuadro de texto 28"/>
            <p:cNvSpPr/>
            <p:nvPr/>
          </p:nvSpPr>
          <p:spPr>
            <a:xfrm>
              <a:off x="3300120" y="3160440"/>
              <a:ext cx="3108600" cy="140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Producto intermediario en la replicación semiconservati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Cuadro de texto 29"/>
            <p:cNvSpPr/>
            <p:nvPr/>
          </p:nvSpPr>
          <p:spPr>
            <a:xfrm>
              <a:off x="3596760" y="4924080"/>
              <a:ext cx="2811960" cy="115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Dos moléculas de ADN de doble cadena hij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ángulo 31"/>
            <p:cNvSpPr/>
            <p:nvPr/>
          </p:nvSpPr>
          <p:spPr>
            <a:xfrm>
              <a:off x="1523880" y="1371600"/>
              <a:ext cx="5181480" cy="4876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Cuadro de texto 35"/>
          <p:cNvSpPr/>
          <p:nvPr/>
        </p:nvSpPr>
        <p:spPr>
          <a:xfrm>
            <a:off x="5276880" y="1724040"/>
            <a:ext cx="2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spcBef>
                <a:spcPts val="1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CARACTERISTICAS GENERALES DE LA REPLICAC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Cuadro de texto 57"/>
          <p:cNvSpPr/>
          <p:nvPr/>
        </p:nvSpPr>
        <p:spPr>
          <a:xfrm>
            <a:off x="0" y="1295280"/>
            <a:ext cx="9144000" cy="6412680"/>
          </a:xfrm>
          <a:prstGeom prst="rect">
            <a:avLst/>
          </a:prstGeom>
          <a:solidFill>
            <a:srgbClr val="c0e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Semiconservadora. Necesita de una cadena molde de A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Dirección 5’</a:t>
            </a:r>
            <a:r>
              <a:rPr b="0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→</a:t>
            </a: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 3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Las nuevas hebras son antiparalelas: rezagada y contin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Las enzimas que intervienen en la unión de los nucleótidos se denominan </a:t>
            </a:r>
            <a:r>
              <a:rPr b="0" i="1" lang="es-AR" sz="2400" spc="-1" strike="noStrike">
                <a:solidFill>
                  <a:srgbClr val="000000"/>
                </a:solidFill>
                <a:latin typeface="Arial Rounded MT Bold"/>
              </a:rPr>
              <a:t>ADN polimerasas (I,II,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Necesita de un cebador, secuencia de 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Se producen uniones A=T y G  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Se lleva a cabo en el núcleo y mitocondrias de células animales y en cloroplastos de células vege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6"/>
          <p:cNvGrpSpPr/>
          <p:nvPr/>
        </p:nvGrpSpPr>
        <p:grpSpPr>
          <a:xfrm>
            <a:off x="4495680" y="5257800"/>
            <a:ext cx="457200" cy="1015920"/>
            <a:chOff x="4495680" y="5257800"/>
            <a:chExt cx="457200" cy="1015920"/>
          </a:xfrm>
        </p:grpSpPr>
        <p:sp>
          <p:nvSpPr>
            <p:cNvPr id="376" name="Text Box 7"/>
            <p:cNvSpPr/>
            <p:nvPr/>
          </p:nvSpPr>
          <p:spPr>
            <a:xfrm>
              <a:off x="4495680" y="5257800"/>
              <a:ext cx="457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8"/>
            <p:cNvSpPr/>
            <p:nvPr/>
          </p:nvSpPr>
          <p:spPr>
            <a:xfrm>
              <a:off x="4611600" y="5603760"/>
              <a:ext cx="15264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2 Rectángulo"/>
          <p:cNvSpPr/>
          <p:nvPr/>
        </p:nvSpPr>
        <p:spPr>
          <a:xfrm>
            <a:off x="304920" y="1501920"/>
            <a:ext cx="8381880" cy="5580360"/>
          </a:xfrm>
          <a:prstGeom prst="rect">
            <a:avLst/>
          </a:prstGeom>
          <a:solidFill>
            <a:srgbClr val="c0e6dd"/>
          </a:solidFill>
          <a:ln w="9360">
            <a:solidFill>
              <a:srgbClr val="c0e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OLIMERASAS: Unión de nucleót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HELICASA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. Separan las cadenas requiriendo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TOPOISOMERASA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. Eliminan tensiones en la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structura helicoidal del AD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4)-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PROTEÍNAS DE UNIÓN AL ADN.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Estabilizan l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adenas separa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5)-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PRIMASA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Síntesis de Cebadores (fragm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ortos de A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6)- ADN POLIMERASA I: Elimina los cebadores y lo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reemplazados por ADN (dNT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ADN LIGASA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Unión de segmentos de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229600" cy="114300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9360">
            <a:solidFill>
              <a:srgbClr val="43808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ZIMAS Y FACTORES QUE INTERVIENEN EN LA REPLICAC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Cuadro de texto 35"/>
          <p:cNvSpPr/>
          <p:nvPr/>
        </p:nvSpPr>
        <p:spPr>
          <a:xfrm>
            <a:off x="1603440" y="187200"/>
            <a:ext cx="540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stema ADN replicasa o Replis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upo 37"/>
          <p:cNvGrpSpPr/>
          <p:nvPr/>
        </p:nvGrpSpPr>
        <p:grpSpPr>
          <a:xfrm>
            <a:off x="566640" y="2666880"/>
            <a:ext cx="7814880" cy="3786120"/>
            <a:chOff x="566640" y="2666880"/>
            <a:chExt cx="7814880" cy="3786120"/>
          </a:xfrm>
        </p:grpSpPr>
        <p:pic>
          <p:nvPicPr>
            <p:cNvPr id="382" name="Imagen 7" descr="ch8f20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88760" y="2804760"/>
              <a:ext cx="7442640" cy="364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Elipse 8"/>
            <p:cNvSpPr/>
            <p:nvPr/>
          </p:nvSpPr>
          <p:spPr>
            <a:xfrm>
              <a:off x="3543480" y="4484520"/>
              <a:ext cx="465120" cy="757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forma 9"/>
            <p:cNvSpPr/>
            <p:nvPr/>
          </p:nvSpPr>
          <p:spPr>
            <a:xfrm rot="5986200">
              <a:off x="3132720" y="3574440"/>
              <a:ext cx="905760" cy="6048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ffffff"/>
                </a:gs>
              </a:gsLst>
              <a:lin ang="2101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Elipse 10"/>
            <p:cNvSpPr/>
            <p:nvPr/>
          </p:nvSpPr>
          <p:spPr>
            <a:xfrm>
              <a:off x="4566960" y="4028760"/>
              <a:ext cx="837360" cy="909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forma 11"/>
            <p:cNvSpPr/>
            <p:nvPr/>
          </p:nvSpPr>
          <p:spPr>
            <a:xfrm rot="15508200">
              <a:off x="1693800" y="5113080"/>
              <a:ext cx="908280" cy="558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ffffff"/>
                </a:gs>
              </a:gsLst>
              <a:lin ang="1149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forma 12"/>
            <p:cNvSpPr/>
            <p:nvPr/>
          </p:nvSpPr>
          <p:spPr>
            <a:xfrm>
              <a:off x="3636720" y="4028760"/>
              <a:ext cx="651240" cy="909360"/>
            </a:xfrm>
            <a:custGeom>
              <a:avLst/>
              <a:gdLst>
                <a:gd name="textAreaLeft" fmla="*/ 0 w 651240"/>
                <a:gd name="textAreaRight" fmla="*/ 651600 w 65124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ángulo 13"/>
            <p:cNvSpPr/>
            <p:nvPr/>
          </p:nvSpPr>
          <p:spPr>
            <a:xfrm>
              <a:off x="781560" y="4710600"/>
              <a:ext cx="102348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ínea 14"/>
            <p:cNvSpPr/>
            <p:nvPr/>
          </p:nvSpPr>
          <p:spPr>
            <a:xfrm flipH="1">
              <a:off x="1776240" y="3423960"/>
              <a:ext cx="9288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ínea 15"/>
            <p:cNvSpPr/>
            <p:nvPr/>
          </p:nvSpPr>
          <p:spPr>
            <a:xfrm flipH="1">
              <a:off x="3636720" y="3120480"/>
              <a:ext cx="9288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ínea 16"/>
            <p:cNvSpPr/>
            <p:nvPr/>
          </p:nvSpPr>
          <p:spPr>
            <a:xfrm flipH="1">
              <a:off x="5032080" y="3877920"/>
              <a:ext cx="9288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ínea 17"/>
            <p:cNvSpPr/>
            <p:nvPr/>
          </p:nvSpPr>
          <p:spPr>
            <a:xfrm>
              <a:off x="2985120" y="4938480"/>
              <a:ext cx="9288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ínea 18"/>
            <p:cNvSpPr/>
            <p:nvPr/>
          </p:nvSpPr>
          <p:spPr>
            <a:xfrm flipH="1" flipV="1">
              <a:off x="2520360" y="5542920"/>
              <a:ext cx="185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ínea 19"/>
            <p:cNvSpPr/>
            <p:nvPr/>
          </p:nvSpPr>
          <p:spPr>
            <a:xfrm flipV="1">
              <a:off x="1869120" y="5846760"/>
              <a:ext cx="18576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ínea 20"/>
            <p:cNvSpPr/>
            <p:nvPr/>
          </p:nvSpPr>
          <p:spPr>
            <a:xfrm>
              <a:off x="3450600" y="4484520"/>
              <a:ext cx="27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ínea 21"/>
            <p:cNvSpPr/>
            <p:nvPr/>
          </p:nvSpPr>
          <p:spPr>
            <a:xfrm>
              <a:off x="1310760" y="4149000"/>
              <a:ext cx="1860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ínea 22"/>
            <p:cNvSpPr/>
            <p:nvPr/>
          </p:nvSpPr>
          <p:spPr>
            <a:xfrm flipH="1">
              <a:off x="1124280" y="4635360"/>
              <a:ext cx="1674360" cy="45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Cuadro de texto 23"/>
            <p:cNvSpPr/>
            <p:nvPr/>
          </p:nvSpPr>
          <p:spPr>
            <a:xfrm>
              <a:off x="4101840" y="5695920"/>
              <a:ext cx="802800" cy="60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teínas de unión al AD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ínea 24"/>
            <p:cNvSpPr/>
            <p:nvPr/>
          </p:nvSpPr>
          <p:spPr>
            <a:xfrm flipH="1" flipV="1">
              <a:off x="4008960" y="5392440"/>
              <a:ext cx="18576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ángulo 25"/>
            <p:cNvSpPr/>
            <p:nvPr/>
          </p:nvSpPr>
          <p:spPr>
            <a:xfrm rot="20794200">
              <a:off x="2054880" y="5846760"/>
              <a:ext cx="46512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ángulo 26"/>
            <p:cNvSpPr/>
            <p:nvPr/>
          </p:nvSpPr>
          <p:spPr>
            <a:xfrm rot="18239400">
              <a:off x="4077360" y="4845240"/>
              <a:ext cx="606600" cy="1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Elipse 27"/>
            <p:cNvSpPr/>
            <p:nvPr/>
          </p:nvSpPr>
          <p:spPr>
            <a:xfrm>
              <a:off x="4287960" y="4331880"/>
              <a:ext cx="928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Cuadro de texto 28"/>
            <p:cNvSpPr/>
            <p:nvPr/>
          </p:nvSpPr>
          <p:spPr>
            <a:xfrm>
              <a:off x="1112760" y="3129480"/>
              <a:ext cx="1686600" cy="25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dena adelanta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Cuadro de texto 29"/>
            <p:cNvSpPr/>
            <p:nvPr/>
          </p:nvSpPr>
          <p:spPr>
            <a:xfrm>
              <a:off x="3145320" y="2885760"/>
              <a:ext cx="1364400" cy="26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N Polimer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Cuadro de texto 30"/>
            <p:cNvSpPr/>
            <p:nvPr/>
          </p:nvSpPr>
          <p:spPr>
            <a:xfrm>
              <a:off x="4939200" y="3535200"/>
              <a:ext cx="1331640" cy="36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poisomer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Cuadro de texto 31"/>
            <p:cNvSpPr/>
            <p:nvPr/>
          </p:nvSpPr>
          <p:spPr>
            <a:xfrm>
              <a:off x="2892240" y="4331880"/>
              <a:ext cx="74412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lic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Cuadro de texto 32"/>
            <p:cNvSpPr/>
            <p:nvPr/>
          </p:nvSpPr>
          <p:spPr>
            <a:xfrm>
              <a:off x="2333880" y="4786200"/>
              <a:ext cx="651240" cy="15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ebad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Cuadro de texto 33"/>
            <p:cNvSpPr/>
            <p:nvPr/>
          </p:nvSpPr>
          <p:spPr>
            <a:xfrm>
              <a:off x="1310760" y="6035040"/>
              <a:ext cx="1209600" cy="26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N Polimer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Cuadro de texto 34"/>
            <p:cNvSpPr/>
            <p:nvPr/>
          </p:nvSpPr>
          <p:spPr>
            <a:xfrm>
              <a:off x="2613240" y="5695920"/>
              <a:ext cx="1208880" cy="45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gmentos de Okazak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ángulo 36"/>
            <p:cNvSpPr/>
            <p:nvPr/>
          </p:nvSpPr>
          <p:spPr>
            <a:xfrm>
              <a:off x="566640" y="2666880"/>
              <a:ext cx="7814880" cy="3786120"/>
            </a:xfrm>
            <a:prstGeom prst="rect">
              <a:avLst/>
            </a:prstGeom>
            <a:noFill/>
            <a:ln w="2556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1 Rectángulo"/>
          <p:cNvSpPr/>
          <p:nvPr/>
        </p:nvSpPr>
        <p:spPr>
          <a:xfrm>
            <a:off x="217440" y="812880"/>
            <a:ext cx="892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ada una de las hebras del ADN bicatenario sirve de molde para la síntesis de una cadena nu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or lo tanto, las moléculas nuevas de ADN estarán constituidas por una cadena nueva y una vie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De allí que este proceso se defina como </a:t>
            </a: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REPLICACIÓN SEMICONSERVADO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2 CuadroTexto"/>
          <p:cNvSpPr/>
          <p:nvPr/>
        </p:nvSpPr>
        <p:spPr>
          <a:xfrm>
            <a:off x="5257800" y="531180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omplejo de reconocimiento del origen (OR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3" name="4 Conector recto de flecha"/>
          <p:cNvCxnSpPr>
            <a:endCxn id="401" idx="3"/>
          </p:cNvCxnSpPr>
          <p:nvPr/>
        </p:nvCxnSpPr>
        <p:spPr>
          <a:xfrm flipH="1" flipV="1">
            <a:off x="4551120" y="4687920"/>
            <a:ext cx="707040" cy="705240"/>
          </a:xfrm>
          <a:prstGeom prst="straightConnector1">
            <a:avLst/>
          </a:prstGeom>
          <a:ln w="9360">
            <a:solidFill>
              <a:srgbClr val="50518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1 Rectángulo"/>
          <p:cNvSpPr/>
          <p:nvPr/>
        </p:nvSpPr>
        <p:spPr>
          <a:xfrm>
            <a:off x="0" y="0"/>
            <a:ext cx="914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Reparación del AD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El mantenimiento de la información contenida en el ADN es vital y requiere que cada célula mantenga un complicado sistema de repar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El ADN puede ser dañado por diversos agentes ambientales o por procesos espontáneo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Una lesión no reparada del ADN, puede transmitirse a generaciones futuras y se denomina, en general, mut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La presencia de defectos en genes que codifican las enzimas de reparación del ADN tienen graves efec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0668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9360">
            <a:solidFill>
              <a:srgbClr val="43808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structura del 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Picture 3" descr="NA-comparedto-DNA_thymineAndUracilCorrected"/>
          <p:cNvPicPr/>
          <p:nvPr/>
        </p:nvPicPr>
        <p:blipFill>
          <a:blip r:embed="rId1"/>
          <a:stretch/>
        </p:blipFill>
        <p:spPr>
          <a:xfrm>
            <a:off x="1619280" y="907920"/>
            <a:ext cx="5862600" cy="595008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9360">
            <a:solidFill>
              <a:srgbClr val="43808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ipos de RNA y características específ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Group 3"/>
          <p:cNvGrpSpPr/>
          <p:nvPr/>
        </p:nvGrpSpPr>
        <p:grpSpPr>
          <a:xfrm>
            <a:off x="1264680" y="1015920"/>
            <a:ext cx="3911040" cy="1622880"/>
            <a:chOff x="1264680" y="1015920"/>
            <a:chExt cx="3911040" cy="1622880"/>
          </a:xfrm>
        </p:grpSpPr>
        <p:sp>
          <p:nvSpPr>
            <p:cNvPr id="419" name="Text Box 4"/>
            <p:cNvSpPr/>
            <p:nvPr/>
          </p:nvSpPr>
          <p:spPr>
            <a:xfrm>
              <a:off x="1264680" y="1494000"/>
              <a:ext cx="7340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5"/>
            <p:cNvSpPr/>
            <p:nvPr/>
          </p:nvSpPr>
          <p:spPr>
            <a:xfrm>
              <a:off x="2723040" y="1015920"/>
              <a:ext cx="201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NA ribosom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6"/>
            <p:cNvSpPr/>
            <p:nvPr/>
          </p:nvSpPr>
          <p:spPr>
            <a:xfrm>
              <a:off x="2701440" y="1627200"/>
              <a:ext cx="247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NA transfere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7"/>
            <p:cNvSpPr/>
            <p:nvPr/>
          </p:nvSpPr>
          <p:spPr>
            <a:xfrm>
              <a:off x="2725560" y="2239920"/>
              <a:ext cx="207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NA mensaje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8"/>
            <p:cNvSpPr/>
            <p:nvPr/>
          </p:nvSpPr>
          <p:spPr>
            <a:xfrm flipV="1">
              <a:off x="2149560" y="1302840"/>
              <a:ext cx="576000" cy="28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9"/>
            <p:cNvSpPr/>
            <p:nvPr/>
          </p:nvSpPr>
          <p:spPr>
            <a:xfrm>
              <a:off x="2149560" y="1808280"/>
              <a:ext cx="64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10"/>
            <p:cNvSpPr/>
            <p:nvPr/>
          </p:nvSpPr>
          <p:spPr>
            <a:xfrm>
              <a:off x="2149560" y="1952640"/>
              <a:ext cx="576000" cy="50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26" name=""/>
          <p:cNvGraphicFramePr/>
          <p:nvPr/>
        </p:nvGraphicFramePr>
        <p:xfrm>
          <a:off x="468360" y="3068640"/>
          <a:ext cx="8147160" cy="3125880"/>
        </p:xfrm>
        <a:graphic>
          <a:graphicData uri="http://schemas.openxmlformats.org/drawingml/2006/table">
            <a:tbl>
              <a:tblPr/>
              <a:tblGrid>
                <a:gridCol w="2503440"/>
                <a:gridCol w="3598920"/>
                <a:gridCol w="2044800"/>
              </a:tblGrid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po de A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acterísticas estructu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NA ribosomal (RN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asocia con proteínas.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nente estructural de riboso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NA transferencial (RN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 RNAt específico para c/a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hoja de trébol)- Extremo 3’: C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porte de aa al complejo Ribosoma-RN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NA mensajero (RNA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cripto primario.                 Cola poli-A 3’.                      Caperuza de 7-metil guanosina 5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de para síntesis de proteí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RACTERISTICAS DE LA TRANSCRIPC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solidFill>
            <a:srgbClr val="c0e6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quiere de ADN y copia una porción de una de las hebras (g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iliza los ribonucleótidos de A, U, G y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dirección de la copia es 5´  3´, hebra molde dirección 3´  5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nzima que cataliza la unión de los ribonucleótidos se denomina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ARN polimer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requiere ceb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olimerasa se une a secuencias denominadas PROMOTORES (en el D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transcriben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orciones codifican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xon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 y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orciones  no codifican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ron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4800600" y="2971800"/>
            <a:ext cx="2286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5"/>
          <p:cNvSpPr/>
          <p:nvPr/>
        </p:nvSpPr>
        <p:spPr>
          <a:xfrm>
            <a:off x="1143000" y="3276720"/>
            <a:ext cx="2286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9360">
            <a:solidFill>
              <a:srgbClr val="43808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CESO DE TRANSCRIPC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l ADN se desenrolla y forma una “burbuja de transcripción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onsta de 3 FAS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INICIAC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ELONGAC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TERMINAC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3809880" y="3276720"/>
            <a:ext cx="4572000" cy="703800"/>
          </a:xfrm>
          <a:prstGeom prst="rect">
            <a:avLst/>
          </a:prstGeom>
          <a:solidFill>
            <a:srgbClr val="c0e6dd"/>
          </a:solidFill>
          <a:ln w="9360">
            <a:solidFill>
              <a:srgbClr val="c0e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senrollamiento del DNA y unión de la POLIMERASA al PROMO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8"/>
          <p:cNvSpPr/>
          <p:nvPr/>
        </p:nvSpPr>
        <p:spPr>
          <a:xfrm>
            <a:off x="3962520" y="4572000"/>
            <a:ext cx="3733560" cy="703800"/>
          </a:xfrm>
          <a:prstGeom prst="rect">
            <a:avLst/>
          </a:prstGeom>
          <a:solidFill>
            <a:srgbClr val="c0e6dd"/>
          </a:solidFill>
          <a:ln w="9360">
            <a:solidFill>
              <a:srgbClr val="c0e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cción de la POLIMERASA (TRANSCRIPC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9"/>
          <p:cNvSpPr/>
          <p:nvPr/>
        </p:nvSpPr>
        <p:spPr>
          <a:xfrm>
            <a:off x="3962520" y="5638680"/>
            <a:ext cx="4419360" cy="703800"/>
          </a:xfrm>
          <a:prstGeom prst="rect">
            <a:avLst/>
          </a:prstGeom>
          <a:solidFill>
            <a:srgbClr val="c0e6dd"/>
          </a:solidFill>
          <a:ln w="9360">
            <a:solidFill>
              <a:srgbClr val="c0e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sociación de la POLIMERASA y liberación del ARN transcrip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2819520" y="3352680"/>
            <a:ext cx="1143000" cy="3049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6"/>
          <p:cNvSpPr/>
          <p:nvPr/>
        </p:nvSpPr>
        <p:spPr>
          <a:xfrm>
            <a:off x="3124080" y="4419720"/>
            <a:ext cx="1143000" cy="30456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7"/>
          <p:cNvSpPr/>
          <p:nvPr/>
        </p:nvSpPr>
        <p:spPr>
          <a:xfrm>
            <a:off x="3200400" y="5791320"/>
            <a:ext cx="990720" cy="304560"/>
          </a:xfrm>
          <a:custGeom>
            <a:avLst/>
            <a:gdLst>
              <a:gd name="textAreaLeft" fmla="*/ 173160 w 990720"/>
              <a:gd name="textAreaRight" fmla="*/ 718200 w 99072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229600" cy="63324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Modificaciones post-transcripcion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Imagen 3" descr="Gene_Intron_Exon"/>
          <p:cNvPicPr/>
          <p:nvPr/>
        </p:nvPicPr>
        <p:blipFill>
          <a:blip r:embed="rId1"/>
          <a:stretch/>
        </p:blipFill>
        <p:spPr>
          <a:xfrm>
            <a:off x="-76320" y="1459080"/>
            <a:ext cx="2287800" cy="2823840"/>
          </a:xfrm>
          <a:prstGeom prst="rect">
            <a:avLst/>
          </a:prstGeom>
          <a:ln w="0">
            <a:noFill/>
          </a:ln>
        </p:spPr>
      </p:pic>
      <p:sp>
        <p:nvSpPr>
          <p:cNvPr id="441" name="Rectángulo 5"/>
          <p:cNvSpPr/>
          <p:nvPr/>
        </p:nvSpPr>
        <p:spPr>
          <a:xfrm>
            <a:off x="0" y="762120"/>
            <a:ext cx="20318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ff"/>
                </a:solidFill>
                <a:uFillTx/>
                <a:latin typeface="Arial"/>
              </a:rPr>
              <a:t>ARN transcripto primar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ínea 23"/>
          <p:cNvSpPr/>
          <p:nvPr/>
        </p:nvSpPr>
        <p:spPr>
          <a:xfrm>
            <a:off x="2635200" y="1219320"/>
            <a:ext cx="5732640" cy="0"/>
          </a:xfrm>
          <a:prstGeom prst="line">
            <a:avLst/>
          </a:prstGeom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ángulo 24"/>
          <p:cNvSpPr/>
          <p:nvPr/>
        </p:nvSpPr>
        <p:spPr>
          <a:xfrm>
            <a:off x="6837480" y="264312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AAAAA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ángulo 25"/>
          <p:cNvSpPr/>
          <p:nvPr/>
        </p:nvSpPr>
        <p:spPr>
          <a:xfrm>
            <a:off x="1219320" y="2133720"/>
            <a:ext cx="243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ff"/>
                </a:solidFill>
                <a:uFillTx/>
                <a:latin typeface="Arial"/>
              </a:rPr>
              <a:t>ARNm mad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ángulo 26"/>
          <p:cNvSpPr/>
          <p:nvPr/>
        </p:nvSpPr>
        <p:spPr>
          <a:xfrm>
            <a:off x="2099520" y="1752480"/>
            <a:ext cx="1536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660033"/>
                </a:solidFill>
                <a:latin typeface="Arial"/>
              </a:rPr>
              <a:t>          </a:t>
            </a:r>
            <a:r>
              <a:rPr b="1" i="1" lang="de-DE" sz="2000" spc="-1" strike="noStrike">
                <a:solidFill>
                  <a:srgbClr val="660033"/>
                </a:solidFill>
                <a:latin typeface="Arial"/>
              </a:rPr>
              <a:t>5´ 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ángulo 27"/>
          <p:cNvSpPr/>
          <p:nvPr/>
        </p:nvSpPr>
        <p:spPr>
          <a:xfrm>
            <a:off x="7041600" y="2430360"/>
            <a:ext cx="70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l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ángulo 28"/>
          <p:cNvSpPr/>
          <p:nvPr/>
        </p:nvSpPr>
        <p:spPr>
          <a:xfrm>
            <a:off x="4122720" y="2630520"/>
            <a:ext cx="630360" cy="1890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ángulo 29"/>
          <p:cNvSpPr/>
          <p:nvPr/>
        </p:nvSpPr>
        <p:spPr>
          <a:xfrm>
            <a:off x="4761000" y="2630520"/>
            <a:ext cx="1023840" cy="189000"/>
          </a:xfrm>
          <a:prstGeom prst="rect">
            <a:avLst/>
          </a:prstGeom>
          <a:solidFill>
            <a:srgbClr val="c2a87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ínea 30"/>
          <p:cNvSpPr/>
          <p:nvPr/>
        </p:nvSpPr>
        <p:spPr>
          <a:xfrm>
            <a:off x="3832200" y="2727360"/>
            <a:ext cx="295200" cy="0"/>
          </a:xfrm>
          <a:prstGeom prst="line">
            <a:avLst/>
          </a:prstGeom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ángulo 31"/>
          <p:cNvSpPr/>
          <p:nvPr/>
        </p:nvSpPr>
        <p:spPr>
          <a:xfrm>
            <a:off x="4145040" y="2658960"/>
            <a:ext cx="28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U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ínea 32"/>
          <p:cNvSpPr/>
          <p:nvPr/>
        </p:nvSpPr>
        <p:spPr>
          <a:xfrm>
            <a:off x="3625920" y="1523880"/>
            <a:ext cx="8380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ínea 33"/>
          <p:cNvSpPr/>
          <p:nvPr/>
        </p:nvSpPr>
        <p:spPr>
          <a:xfrm flipH="1">
            <a:off x="5302080" y="1689120"/>
            <a:ext cx="5040" cy="749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ínea 34"/>
          <p:cNvSpPr/>
          <p:nvPr/>
        </p:nvSpPr>
        <p:spPr>
          <a:xfrm flipH="1">
            <a:off x="6444720" y="1371600"/>
            <a:ext cx="1676520" cy="109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ángulo 35"/>
          <p:cNvSpPr/>
          <p:nvPr/>
        </p:nvSpPr>
        <p:spPr>
          <a:xfrm>
            <a:off x="5802480" y="2630520"/>
            <a:ext cx="1023840" cy="18900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ángulo 37"/>
          <p:cNvSpPr/>
          <p:nvPr/>
        </p:nvSpPr>
        <p:spPr>
          <a:xfrm>
            <a:off x="2548800" y="3962520"/>
            <a:ext cx="12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ángulo 38"/>
          <p:cNvSpPr/>
          <p:nvPr/>
        </p:nvSpPr>
        <p:spPr>
          <a:xfrm>
            <a:off x="3092400" y="3352680"/>
            <a:ext cx="2011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cc0055"/>
                </a:solidFill>
                <a:latin typeface="Arial"/>
              </a:rPr>
              <a:t>Traduc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ángulo 41"/>
          <p:cNvSpPr/>
          <p:nvPr/>
        </p:nvSpPr>
        <p:spPr>
          <a:xfrm>
            <a:off x="5992920" y="3971880"/>
            <a:ext cx="985680" cy="18720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ángulo 42"/>
          <p:cNvSpPr/>
          <p:nvPr/>
        </p:nvSpPr>
        <p:spPr>
          <a:xfrm>
            <a:off x="4319640" y="3971880"/>
            <a:ext cx="630360" cy="1890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ángulo 43"/>
          <p:cNvSpPr/>
          <p:nvPr/>
        </p:nvSpPr>
        <p:spPr>
          <a:xfrm>
            <a:off x="4957920" y="3971880"/>
            <a:ext cx="1023840" cy="189000"/>
          </a:xfrm>
          <a:prstGeom prst="rect">
            <a:avLst/>
          </a:prstGeom>
          <a:solidFill>
            <a:srgbClr val="c2a87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ínea 44"/>
          <p:cNvSpPr/>
          <p:nvPr/>
        </p:nvSpPr>
        <p:spPr>
          <a:xfrm>
            <a:off x="5302080" y="30481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ángulo 49"/>
          <p:cNvSpPr/>
          <p:nvPr/>
        </p:nvSpPr>
        <p:spPr>
          <a:xfrm>
            <a:off x="6002280" y="3902040"/>
            <a:ext cx="1679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66"/>
          <p:cNvGrpSpPr/>
          <p:nvPr/>
        </p:nvGrpSpPr>
        <p:grpSpPr>
          <a:xfrm>
            <a:off x="1873080" y="990720"/>
            <a:ext cx="761760" cy="452160"/>
            <a:chOff x="1873080" y="990720"/>
            <a:chExt cx="761760" cy="452160"/>
          </a:xfrm>
        </p:grpSpPr>
        <p:sp>
          <p:nvSpPr>
            <p:cNvPr id="463" name="Rectángulo 58"/>
            <p:cNvSpPr/>
            <p:nvPr/>
          </p:nvSpPr>
          <p:spPr>
            <a:xfrm>
              <a:off x="1873080" y="990720"/>
              <a:ext cx="761760" cy="4521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ángulo 59"/>
            <p:cNvSpPr/>
            <p:nvPr/>
          </p:nvSpPr>
          <p:spPr>
            <a:xfrm>
              <a:off x="1966680" y="1066680"/>
              <a:ext cx="668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ff"/>
                  </a:solidFill>
                  <a:latin typeface="Arial"/>
                </a:rPr>
                <a:t>AU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Rectángulo 62"/>
          <p:cNvSpPr/>
          <p:nvPr/>
        </p:nvSpPr>
        <p:spPr>
          <a:xfrm>
            <a:off x="8045280" y="1066680"/>
            <a:ext cx="6098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Cuadro de texto 63"/>
          <p:cNvSpPr/>
          <p:nvPr/>
        </p:nvSpPr>
        <p:spPr>
          <a:xfrm>
            <a:off x="4386960" y="1676520"/>
            <a:ext cx="2230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0066"/>
                </a:solidFill>
                <a:latin typeface="Arial"/>
              </a:rPr>
              <a:t>Corte y empal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Cuadro de texto 64"/>
          <p:cNvSpPr/>
          <p:nvPr/>
        </p:nvSpPr>
        <p:spPr>
          <a:xfrm>
            <a:off x="6614280" y="1676520"/>
            <a:ext cx="2044440" cy="398880"/>
          </a:xfrm>
          <a:prstGeom prst="rect">
            <a:avLst/>
          </a:prstGeom>
          <a:solidFill>
            <a:srgbClr val="c0e6dd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0066"/>
                </a:solidFill>
                <a:latin typeface="Arial"/>
              </a:rPr>
              <a:t>Poliaden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68"/>
          <p:cNvGrpSpPr/>
          <p:nvPr/>
        </p:nvGrpSpPr>
        <p:grpSpPr>
          <a:xfrm>
            <a:off x="4768920" y="990720"/>
            <a:ext cx="1066680" cy="452160"/>
            <a:chOff x="4768920" y="990720"/>
            <a:chExt cx="1066680" cy="452160"/>
          </a:xfrm>
        </p:grpSpPr>
        <p:sp>
          <p:nvSpPr>
            <p:cNvPr id="469" name="Rectángulo 60"/>
            <p:cNvSpPr/>
            <p:nvPr/>
          </p:nvSpPr>
          <p:spPr>
            <a:xfrm>
              <a:off x="4768920" y="990720"/>
              <a:ext cx="1066680" cy="452160"/>
            </a:xfrm>
            <a:prstGeom prst="rect">
              <a:avLst/>
            </a:prstGeom>
            <a:solidFill>
              <a:srgbClr val="c2a87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ángulo 19"/>
            <p:cNvSpPr/>
            <p:nvPr/>
          </p:nvSpPr>
          <p:spPr>
            <a:xfrm>
              <a:off x="4844520" y="1066680"/>
              <a:ext cx="834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xon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67"/>
          <p:cNvGrpSpPr/>
          <p:nvPr/>
        </p:nvGrpSpPr>
        <p:grpSpPr>
          <a:xfrm>
            <a:off x="2635200" y="990720"/>
            <a:ext cx="992160" cy="457200"/>
            <a:chOff x="2635200" y="990720"/>
            <a:chExt cx="992160" cy="457200"/>
          </a:xfrm>
        </p:grpSpPr>
        <p:sp>
          <p:nvSpPr>
            <p:cNvPr id="472" name="Rectángulo 16"/>
            <p:cNvSpPr/>
            <p:nvPr/>
          </p:nvSpPr>
          <p:spPr>
            <a:xfrm>
              <a:off x="2635200" y="990720"/>
              <a:ext cx="992160" cy="457200"/>
            </a:xfrm>
            <a:prstGeom prst="rect">
              <a:avLst/>
            </a:prstGeom>
            <a:solidFill>
              <a:srgbClr val="ed8c2b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ángulo 18"/>
            <p:cNvSpPr/>
            <p:nvPr/>
          </p:nvSpPr>
          <p:spPr>
            <a:xfrm>
              <a:off x="2787480" y="1056240"/>
              <a:ext cx="834480" cy="305280"/>
            </a:xfrm>
            <a:prstGeom prst="rect">
              <a:avLst/>
            </a:prstGeom>
            <a:solidFill>
              <a:srgbClr val="ed8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xon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69"/>
          <p:cNvGrpSpPr/>
          <p:nvPr/>
        </p:nvGrpSpPr>
        <p:grpSpPr>
          <a:xfrm>
            <a:off x="6978600" y="990720"/>
            <a:ext cx="1066680" cy="380880"/>
            <a:chOff x="6978600" y="990720"/>
            <a:chExt cx="1066680" cy="380880"/>
          </a:xfrm>
        </p:grpSpPr>
        <p:sp>
          <p:nvSpPr>
            <p:cNvPr id="475" name="Rectángulo 61"/>
            <p:cNvSpPr/>
            <p:nvPr/>
          </p:nvSpPr>
          <p:spPr>
            <a:xfrm>
              <a:off x="6978600" y="990720"/>
              <a:ext cx="1066680" cy="38088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ángulo 20"/>
            <p:cNvSpPr/>
            <p:nvPr/>
          </p:nvSpPr>
          <p:spPr>
            <a:xfrm>
              <a:off x="7130160" y="1049400"/>
              <a:ext cx="834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xon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71"/>
          <p:cNvGrpSpPr/>
          <p:nvPr/>
        </p:nvGrpSpPr>
        <p:grpSpPr>
          <a:xfrm>
            <a:off x="3625920" y="1066680"/>
            <a:ext cx="1143000" cy="610200"/>
            <a:chOff x="3625920" y="1066680"/>
            <a:chExt cx="1143000" cy="610200"/>
          </a:xfrm>
        </p:grpSpPr>
        <p:sp>
          <p:nvSpPr>
            <p:cNvPr id="478" name="Rectángulo 17"/>
            <p:cNvSpPr/>
            <p:nvPr/>
          </p:nvSpPr>
          <p:spPr>
            <a:xfrm>
              <a:off x="3625920" y="1066680"/>
              <a:ext cx="1143000" cy="30492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ángulo 21"/>
            <p:cNvSpPr/>
            <p:nvPr/>
          </p:nvSpPr>
          <p:spPr>
            <a:xfrm>
              <a:off x="3753720" y="1066680"/>
              <a:ext cx="8719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Intron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Group 70"/>
          <p:cNvGrpSpPr/>
          <p:nvPr/>
        </p:nvGrpSpPr>
        <p:grpSpPr>
          <a:xfrm>
            <a:off x="5835600" y="1066680"/>
            <a:ext cx="1143000" cy="341280"/>
            <a:chOff x="5835600" y="1066680"/>
            <a:chExt cx="1143000" cy="341280"/>
          </a:xfrm>
        </p:grpSpPr>
        <p:sp>
          <p:nvSpPr>
            <p:cNvPr id="481" name="Rectángulo 15"/>
            <p:cNvSpPr/>
            <p:nvPr/>
          </p:nvSpPr>
          <p:spPr>
            <a:xfrm>
              <a:off x="5835600" y="1066680"/>
              <a:ext cx="1143000" cy="34128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ángulo 22"/>
            <p:cNvSpPr/>
            <p:nvPr/>
          </p:nvSpPr>
          <p:spPr>
            <a:xfrm>
              <a:off x="5986440" y="1066680"/>
              <a:ext cx="933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Intron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72"/>
          <p:cNvGrpSpPr/>
          <p:nvPr/>
        </p:nvGrpSpPr>
        <p:grpSpPr>
          <a:xfrm>
            <a:off x="4006800" y="2514600"/>
            <a:ext cx="761760" cy="452520"/>
            <a:chOff x="4006800" y="2514600"/>
            <a:chExt cx="761760" cy="452520"/>
          </a:xfrm>
        </p:grpSpPr>
        <p:sp>
          <p:nvSpPr>
            <p:cNvPr id="484" name="Rectángulo 58"/>
            <p:cNvSpPr/>
            <p:nvPr/>
          </p:nvSpPr>
          <p:spPr>
            <a:xfrm>
              <a:off x="4006800" y="2514600"/>
              <a:ext cx="761760" cy="4525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ángulo 59"/>
            <p:cNvSpPr/>
            <p:nvPr/>
          </p:nvSpPr>
          <p:spPr>
            <a:xfrm>
              <a:off x="4100400" y="2590920"/>
              <a:ext cx="668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ff"/>
                  </a:solidFill>
                  <a:latin typeface="Arial"/>
                </a:rPr>
                <a:t>AU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Text Box 75"/>
          <p:cNvSpPr/>
          <p:nvPr/>
        </p:nvSpPr>
        <p:spPr>
          <a:xfrm>
            <a:off x="2711520" y="2514600"/>
            <a:ext cx="114300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7-metil Guanosina trifosf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6"/>
          <p:cNvSpPr/>
          <p:nvPr/>
        </p:nvSpPr>
        <p:spPr>
          <a:xfrm>
            <a:off x="152280" y="4572000"/>
            <a:ext cx="7315200" cy="2253600"/>
          </a:xfrm>
          <a:prstGeom prst="rect">
            <a:avLst/>
          </a:prstGeom>
          <a:solidFill>
            <a:srgbClr val="c0e6dd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º) Formación casquete CAP y cola Poli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º) Eliminación de Intr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º) Traslado del RNA m maduro desde el núcleo al 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º) Proceso de Traducción (síntesis de una proteí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º) Modificaciones post-traduc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upo 4"/>
          <p:cNvGrpSpPr/>
          <p:nvPr/>
        </p:nvGrpSpPr>
        <p:grpSpPr>
          <a:xfrm>
            <a:off x="403920" y="1085760"/>
            <a:ext cx="8019360" cy="4648320"/>
            <a:chOff x="403920" y="1085760"/>
            <a:chExt cx="8019360" cy="4648320"/>
          </a:xfrm>
        </p:grpSpPr>
        <p:grpSp>
          <p:nvGrpSpPr>
            <p:cNvPr id="51" name="Grupo 5"/>
            <p:cNvGrpSpPr/>
            <p:nvPr/>
          </p:nvGrpSpPr>
          <p:grpSpPr>
            <a:xfrm>
              <a:off x="403920" y="1230480"/>
              <a:ext cx="4799520" cy="4031640"/>
              <a:chOff x="403920" y="1230480"/>
              <a:chExt cx="4799520" cy="4031640"/>
            </a:xfrm>
          </p:grpSpPr>
          <p:sp>
            <p:nvSpPr>
              <p:cNvPr id="52" name="Cuadro de texto 6"/>
              <p:cNvSpPr/>
              <p:nvPr/>
            </p:nvSpPr>
            <p:spPr>
              <a:xfrm>
                <a:off x="3207240" y="1811160"/>
                <a:ext cx="67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D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Cuadro de texto 7"/>
              <p:cNvSpPr/>
              <p:nvPr/>
            </p:nvSpPr>
            <p:spPr>
              <a:xfrm>
                <a:off x="3207240" y="3385440"/>
                <a:ext cx="67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R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Cuadro de texto 8"/>
              <p:cNvSpPr/>
              <p:nvPr/>
            </p:nvSpPr>
            <p:spPr>
              <a:xfrm>
                <a:off x="2628000" y="4662000"/>
                <a:ext cx="219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éptido o proteí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Autoforma 9"/>
              <p:cNvSpPr/>
              <p:nvPr/>
            </p:nvSpPr>
            <p:spPr>
              <a:xfrm>
                <a:off x="3408120" y="2312280"/>
                <a:ext cx="203760" cy="1081440"/>
              </a:xfrm>
              <a:prstGeom prst="downArrow">
                <a:avLst>
                  <a:gd name="adj1" fmla="val 50000"/>
                  <a:gd name="adj2" fmla="val 132686"/>
                </a:avLst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Autoforma 10"/>
              <p:cNvSpPr/>
              <p:nvPr/>
            </p:nvSpPr>
            <p:spPr>
              <a:xfrm>
                <a:off x="3408120" y="3885840"/>
                <a:ext cx="203760" cy="786960"/>
              </a:xfrm>
              <a:prstGeom prst="downArrow">
                <a:avLst>
                  <a:gd name="adj1" fmla="val 50000"/>
                  <a:gd name="adj2" fmla="val 96555"/>
                </a:avLst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Autoforma 11"/>
              <p:cNvSpPr/>
              <p:nvPr/>
            </p:nvSpPr>
            <p:spPr>
              <a:xfrm flipH="1">
                <a:off x="3544920" y="1427760"/>
                <a:ext cx="339840" cy="589320"/>
              </a:xfrm>
              <a:prstGeom prst="pie">
                <a:avLst/>
              </a:prstGeom>
              <a:solidFill>
                <a:srgbClr val="53548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Cuadro de texto 12"/>
              <p:cNvSpPr/>
              <p:nvPr/>
            </p:nvSpPr>
            <p:spPr>
              <a:xfrm>
                <a:off x="3885840" y="1360440"/>
                <a:ext cx="131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Replicac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Cuadro de texto 13"/>
              <p:cNvSpPr/>
              <p:nvPr/>
            </p:nvSpPr>
            <p:spPr>
              <a:xfrm>
                <a:off x="3548160" y="2441880"/>
                <a:ext cx="152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ranscripc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Cuadro de texto 14"/>
              <p:cNvSpPr/>
              <p:nvPr/>
            </p:nvSpPr>
            <p:spPr>
              <a:xfrm>
                <a:off x="3547440" y="3983760"/>
                <a:ext cx="1271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raducc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Autoforma 15"/>
              <p:cNvSpPr/>
              <p:nvPr/>
            </p:nvSpPr>
            <p:spPr>
              <a:xfrm>
                <a:off x="2321280" y="1230480"/>
                <a:ext cx="407160" cy="4031640"/>
              </a:xfrm>
              <a:custGeom>
                <a:avLst/>
                <a:gdLst>
                  <a:gd name="textAreaLeft" fmla="*/ 260280 w 407160"/>
                  <a:gd name="textAreaRight" fmla="*/ 407520 w 407160"/>
                  <a:gd name="textAreaTop" fmla="*/ 105120 h 4031640"/>
                  <a:gd name="textAreaBottom" fmla="*/ 3926520 h 403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Cuadro de texto 16"/>
              <p:cNvSpPr/>
              <p:nvPr/>
            </p:nvSpPr>
            <p:spPr>
              <a:xfrm>
                <a:off x="403920" y="2845440"/>
                <a:ext cx="2036880" cy="580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OGMA CENTRAL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E LA GENETI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3" name="Imagen 17" descr="trinity"/>
            <p:cNvPicPr/>
            <p:nvPr/>
          </p:nvPicPr>
          <p:blipFill>
            <a:blip r:embed="rId1"/>
            <a:stretch/>
          </p:blipFill>
          <p:spPr>
            <a:xfrm>
              <a:off x="5146560" y="1085760"/>
              <a:ext cx="3276720" cy="4648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E:\Documents and Settings\Fanny\Mis documentos\Clases\Paquete_3-Genetica\Trans_3_4.jpg"/>
          <p:cNvPicPr/>
          <p:nvPr/>
        </p:nvPicPr>
        <p:blipFill>
          <a:blip r:embed="rId1"/>
          <a:stretch/>
        </p:blipFill>
        <p:spPr>
          <a:xfrm>
            <a:off x="1371600" y="166680"/>
            <a:ext cx="6095880" cy="6691320"/>
          </a:xfrm>
          <a:prstGeom prst="rect">
            <a:avLst/>
          </a:prstGeom>
          <a:ln w="0">
            <a:noFill/>
          </a:ln>
        </p:spPr>
      </p:pic>
      <p:sp>
        <p:nvSpPr>
          <p:cNvPr id="489" name="1 CuadroTexto"/>
          <p:cNvSpPr/>
          <p:nvPr/>
        </p:nvSpPr>
        <p:spPr>
          <a:xfrm>
            <a:off x="4274640" y="3087720"/>
            <a:ext cx="193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plicing </a:t>
            </a:r>
            <a:r>
              <a:rPr b="1" lang="es-MX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splicios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6600"/>
                </a:solidFill>
                <a:uFillTx/>
                <a:latin typeface="Calibri"/>
              </a:rPr>
              <a:t>Maduración del ARN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1" name="ShockwaveFlash1"/>
          <p:cNvGraphicFramePr/>
          <p:nvPr/>
        </p:nvGraphicFramePr>
        <p:xfrm>
          <a:off x="1143000" y="1447920"/>
          <a:ext cx="64008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47920"/>
                    <a:ext cx="6400800" cy="4267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adn_a_proteinas"/>
          <p:cNvPicPr/>
          <p:nvPr/>
        </p:nvPicPr>
        <p:blipFill>
          <a:blip r:embed="rId1"/>
          <a:stretch/>
        </p:blipFill>
        <p:spPr>
          <a:xfrm>
            <a:off x="83808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Imagen 2" descr="&#13;F24-02.GIF005                                                  00006B4B_x0013_Sumanas' Hard Drive            B4EBCDA7:"/>
          <p:cNvPicPr/>
          <p:nvPr/>
        </p:nvPicPr>
        <p:blipFill>
          <a:blip r:embed="rId1"/>
          <a:srcRect l="33056" t="0" r="36451" b="4671"/>
          <a:stretch/>
        </p:blipFill>
        <p:spPr>
          <a:xfrm>
            <a:off x="3124080" y="533520"/>
            <a:ext cx="1116000" cy="6324480"/>
          </a:xfrm>
          <a:prstGeom prst="rect">
            <a:avLst/>
          </a:prstGeom>
          <a:ln w="0">
            <a:noFill/>
          </a:ln>
        </p:spPr>
      </p:pic>
      <p:sp>
        <p:nvSpPr>
          <p:cNvPr id="495" name="1 CuadroTexto"/>
          <p:cNvSpPr/>
          <p:nvPr/>
        </p:nvSpPr>
        <p:spPr>
          <a:xfrm>
            <a:off x="4197960" y="228600"/>
            <a:ext cx="1314720" cy="459720"/>
          </a:xfrm>
          <a:prstGeom prst="rect">
            <a:avLst/>
          </a:prstGeom>
          <a:noFill/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D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Imagen 2" descr="&#13;F24-02.GIF005                                                  00006B4B_x0013_Sumanas' Hard Drive            B4EBCDA7:"/>
          <p:cNvPicPr/>
          <p:nvPr/>
        </p:nvPicPr>
        <p:blipFill>
          <a:blip r:embed="rId2"/>
          <a:srcRect l="0" t="0" r="64414" b="4671"/>
          <a:stretch/>
        </p:blipFill>
        <p:spPr>
          <a:xfrm>
            <a:off x="533520" y="533520"/>
            <a:ext cx="1303200" cy="6324480"/>
          </a:xfrm>
          <a:prstGeom prst="rect">
            <a:avLst/>
          </a:prstGeom>
          <a:ln w="0">
            <a:noFill/>
          </a:ln>
        </p:spPr>
      </p:pic>
      <p:pic>
        <p:nvPicPr>
          <p:cNvPr id="497" name="Imagen 2" descr="&#13;F24-02.GIF005                                                  00006B4B_x0013_Sumanas' Hard Drive            B4EBCDA7:"/>
          <p:cNvPicPr/>
          <p:nvPr/>
        </p:nvPicPr>
        <p:blipFill>
          <a:blip r:embed="rId3"/>
          <a:srcRect l="58488" t="0" r="0" b="0"/>
          <a:stretch/>
        </p:blipFill>
        <p:spPr>
          <a:xfrm>
            <a:off x="5791320" y="457200"/>
            <a:ext cx="1465200" cy="6400800"/>
          </a:xfrm>
          <a:prstGeom prst="rect">
            <a:avLst/>
          </a:prstGeom>
          <a:ln w="0">
            <a:noFill/>
          </a:ln>
        </p:spPr>
      </p:pic>
      <p:sp>
        <p:nvSpPr>
          <p:cNvPr id="498" name="Line 9"/>
          <p:cNvSpPr/>
          <p:nvPr/>
        </p:nvSpPr>
        <p:spPr>
          <a:xfrm flipH="1">
            <a:off x="3733560" y="914400"/>
            <a:ext cx="1066680" cy="53352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0"/>
          <p:cNvSpPr/>
          <p:nvPr/>
        </p:nvSpPr>
        <p:spPr>
          <a:xfrm>
            <a:off x="1905120" y="28954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1"/>
          <p:cNvSpPr/>
          <p:nvPr/>
        </p:nvSpPr>
        <p:spPr>
          <a:xfrm>
            <a:off x="4495680" y="28954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ódigo genét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876480" cy="4302360"/>
          </a:xfrm>
          <a:prstGeom prst="rect">
            <a:avLst/>
          </a:prstGeom>
          <a:ln w="0">
            <a:noFill/>
          </a:ln>
        </p:spPr>
      </p:pic>
      <p:grpSp>
        <p:nvGrpSpPr>
          <p:cNvPr id="503" name="Group 4"/>
          <p:cNvGrpSpPr/>
          <p:nvPr/>
        </p:nvGrpSpPr>
        <p:grpSpPr>
          <a:xfrm>
            <a:off x="4644000" y="1720800"/>
            <a:ext cx="4236480" cy="1355760"/>
            <a:chOff x="4644000" y="1720800"/>
            <a:chExt cx="4236480" cy="1355760"/>
          </a:xfrm>
        </p:grpSpPr>
        <p:sp>
          <p:nvSpPr>
            <p:cNvPr id="504" name="Text Box 5"/>
            <p:cNvSpPr/>
            <p:nvPr/>
          </p:nvSpPr>
          <p:spPr>
            <a:xfrm>
              <a:off x="4722480" y="2205000"/>
              <a:ext cx="321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38086"/>
                  </a:solidFill>
                  <a:latin typeface="Arial"/>
                </a:rPr>
                <a:t>AUGCAGUGGAAACUAU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6"/>
            <p:cNvSpPr/>
            <p:nvPr/>
          </p:nvSpPr>
          <p:spPr>
            <a:xfrm>
              <a:off x="8003160" y="220500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438086"/>
                  </a:solidFill>
                  <a:latin typeface="Arial"/>
                </a:rPr>
                <a:t>AR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7"/>
            <p:cNvSpPr/>
            <p:nvPr/>
          </p:nvSpPr>
          <p:spPr>
            <a:xfrm flipH="1" rot="16200000">
              <a:off x="4946400" y="1907280"/>
              <a:ext cx="216000" cy="522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3320 h 522720"/>
                <a:gd name="textAreaBottom" fmla="*/ 509400 h 5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8"/>
            <p:cNvSpPr/>
            <p:nvPr/>
          </p:nvSpPr>
          <p:spPr>
            <a:xfrm>
              <a:off x="4644000" y="172080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d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9"/>
            <p:cNvSpPr/>
            <p:nvPr/>
          </p:nvSpPr>
          <p:spPr>
            <a:xfrm flipH="1" rot="5400000">
              <a:off x="4946400" y="2338920"/>
              <a:ext cx="216000" cy="522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3320 h 522720"/>
                <a:gd name="textAreaBottom" fmla="*/ 509400 h 5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0"/>
            <p:cNvSpPr/>
            <p:nvPr/>
          </p:nvSpPr>
          <p:spPr>
            <a:xfrm flipH="1" rot="5400000">
              <a:off x="5467680" y="2338920"/>
              <a:ext cx="216000" cy="522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3320 h 522720"/>
                <a:gd name="textAreaBottom" fmla="*/ 509400 h 5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11"/>
            <p:cNvSpPr/>
            <p:nvPr/>
          </p:nvSpPr>
          <p:spPr>
            <a:xfrm flipH="1" rot="5400000">
              <a:off x="5990400" y="2338920"/>
              <a:ext cx="216000" cy="522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3320 h 522720"/>
                <a:gd name="textAreaBottom" fmla="*/ 509400 h 5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AutoShape 12"/>
            <p:cNvSpPr/>
            <p:nvPr/>
          </p:nvSpPr>
          <p:spPr>
            <a:xfrm flipH="1" rot="5400000">
              <a:off x="6513120" y="2338920"/>
              <a:ext cx="216000" cy="522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3320 h 522720"/>
                <a:gd name="textAreaBottom" fmla="*/ 509400 h 5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3"/>
            <p:cNvSpPr/>
            <p:nvPr/>
          </p:nvSpPr>
          <p:spPr>
            <a:xfrm flipH="1" rot="5400000">
              <a:off x="7034400" y="2338920"/>
              <a:ext cx="216000" cy="522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3320 h 522720"/>
                <a:gd name="textAreaBottom" fmla="*/ 509400 h 5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14"/>
            <p:cNvSpPr/>
            <p:nvPr/>
          </p:nvSpPr>
          <p:spPr>
            <a:xfrm flipH="1" rot="5400000">
              <a:off x="7555680" y="2338920"/>
              <a:ext cx="216000" cy="522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3320 h 522720"/>
                <a:gd name="textAreaBottom" fmla="*/ 509400 h 5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15"/>
            <p:cNvSpPr/>
            <p:nvPr/>
          </p:nvSpPr>
          <p:spPr>
            <a:xfrm>
              <a:off x="4722120" y="2708280"/>
              <a:ext cx="33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et- Gln–Trp—Lys-Leu-sto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Text Box 16"/>
          <p:cNvSpPr/>
          <p:nvPr/>
        </p:nvSpPr>
        <p:spPr>
          <a:xfrm>
            <a:off x="4648680" y="3733920"/>
            <a:ext cx="4124880" cy="1618560"/>
          </a:xfrm>
          <a:prstGeom prst="rect">
            <a:avLst/>
          </a:prstGeom>
          <a:solidFill>
            <a:srgbClr val="c0e6dd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Universa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es idéntico para 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stintas especies anim. y ve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egenerad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más de un cod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difican para el mismo a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9360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BIOSINTESIS DE PROTEINAS TRADUCCION O TRANSDUCC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Ocurre en citoplas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Intervienen 3 ARN diferentes: mRNA, rRNA, tR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El mRNA es leído en dirección 5´   3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La cadena polipéptidica se sintetiza desde el N-terminal al C-termina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Consta de 4 etapa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1. Activación de los aminoác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2. Inici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3. Elong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4. Terminación y liberación de la cadena polipeptíd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Line 4"/>
          <p:cNvSpPr/>
          <p:nvPr/>
        </p:nvSpPr>
        <p:spPr>
          <a:xfrm>
            <a:off x="5364000" y="2708280"/>
            <a:ext cx="287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183960" y="2852640"/>
            <a:ext cx="398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z-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C-COO-AMP  +  </a:t>
            </a:r>
            <a:r>
              <a:rPr b="1" lang="es-ES" sz="2000" spc="-1" strike="noStrike">
                <a:solidFill>
                  <a:srgbClr val="fc0000"/>
                </a:solidFill>
                <a:latin typeface="Arial"/>
              </a:rPr>
              <a:t>AR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63360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ctivación de aminoácidos en procario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2850480" y="1197000"/>
            <a:ext cx="303660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00"/>
                </a:solidFill>
                <a:latin typeface="Arial"/>
              </a:rPr>
              <a:t>Aminoacil-tARN sintet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5"/>
          <p:cNvGrpSpPr/>
          <p:nvPr/>
        </p:nvGrpSpPr>
        <p:grpSpPr>
          <a:xfrm>
            <a:off x="241200" y="1217520"/>
            <a:ext cx="2966400" cy="793080"/>
            <a:chOff x="241200" y="1217520"/>
            <a:chExt cx="2966400" cy="793080"/>
          </a:xfrm>
        </p:grpSpPr>
        <p:grpSp>
          <p:nvGrpSpPr>
            <p:cNvPr id="523" name="Group 6"/>
            <p:cNvGrpSpPr/>
            <p:nvPr/>
          </p:nvGrpSpPr>
          <p:grpSpPr>
            <a:xfrm>
              <a:off x="241200" y="1217520"/>
              <a:ext cx="2966400" cy="793080"/>
              <a:chOff x="241200" y="1217520"/>
              <a:chExt cx="2966400" cy="793080"/>
            </a:xfrm>
          </p:grpSpPr>
          <p:sp>
            <p:nvSpPr>
              <p:cNvPr id="524" name="Text Box 7"/>
              <p:cNvSpPr/>
              <p:nvPr/>
            </p:nvSpPr>
            <p:spPr>
              <a:xfrm>
                <a:off x="241200" y="1569960"/>
                <a:ext cx="2966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1" lang="es-ES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-C-COO</a:t>
                </a:r>
                <a:r>
                  <a:rPr b="1" lang="es-ES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  +  ATP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8"/>
              <p:cNvSpPr/>
              <p:nvPr/>
            </p:nvSpPr>
            <p:spPr>
              <a:xfrm>
                <a:off x="884880" y="12175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Line 9"/>
            <p:cNvSpPr/>
            <p:nvPr/>
          </p:nvSpPr>
          <p:spPr>
            <a:xfrm>
              <a:off x="1024200" y="150012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10"/>
          <p:cNvGrpSpPr/>
          <p:nvPr/>
        </p:nvGrpSpPr>
        <p:grpSpPr>
          <a:xfrm>
            <a:off x="5515560" y="1197000"/>
            <a:ext cx="2913120" cy="794160"/>
            <a:chOff x="5515560" y="1197000"/>
            <a:chExt cx="2913120" cy="794160"/>
          </a:xfrm>
        </p:grpSpPr>
        <p:sp>
          <p:nvSpPr>
            <p:cNvPr id="528" name="Text Box 11"/>
            <p:cNvSpPr/>
            <p:nvPr/>
          </p:nvSpPr>
          <p:spPr>
            <a:xfrm>
              <a:off x="5515560" y="1550520"/>
              <a:ext cx="291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Enz-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-C-COO-AMP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12"/>
            <p:cNvSpPr/>
            <p:nvPr/>
          </p:nvSpPr>
          <p:spPr>
            <a:xfrm>
              <a:off x="6584760" y="11970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13"/>
            <p:cNvSpPr/>
            <p:nvPr/>
          </p:nvSpPr>
          <p:spPr>
            <a:xfrm>
              <a:off x="6802200" y="1500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Line 14"/>
          <p:cNvSpPr/>
          <p:nvPr/>
        </p:nvSpPr>
        <p:spPr>
          <a:xfrm>
            <a:off x="3348000" y="1773360"/>
            <a:ext cx="18572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5"/>
          <p:cNvSpPr/>
          <p:nvPr/>
        </p:nvSpPr>
        <p:spPr>
          <a:xfrm>
            <a:off x="5161680" y="1989000"/>
            <a:ext cx="37926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cc"/>
                </a:solidFill>
                <a:latin typeface="Arial"/>
              </a:rPr>
              <a:t>Complejo Aminoaciladenilato-Enz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16"/>
          <p:cNvGrpSpPr/>
          <p:nvPr/>
        </p:nvGrpSpPr>
        <p:grpSpPr>
          <a:xfrm>
            <a:off x="5104800" y="2492280"/>
            <a:ext cx="3647520" cy="766080"/>
            <a:chOff x="5104800" y="2492280"/>
            <a:chExt cx="3647520" cy="766080"/>
          </a:xfrm>
        </p:grpSpPr>
        <p:sp>
          <p:nvSpPr>
            <p:cNvPr id="534" name="Text Box 17"/>
            <p:cNvSpPr/>
            <p:nvPr/>
          </p:nvSpPr>
          <p:spPr>
            <a:xfrm>
              <a:off x="5104800" y="2852640"/>
              <a:ext cx="364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-C-COO-ARNt + AMP + Enz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8"/>
            <p:cNvSpPr/>
            <p:nvPr/>
          </p:nvSpPr>
          <p:spPr>
            <a:xfrm>
              <a:off x="5658120" y="2492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9"/>
            <p:cNvSpPr/>
            <p:nvPr/>
          </p:nvSpPr>
          <p:spPr>
            <a:xfrm>
              <a:off x="5789520" y="277956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Text Box 20"/>
          <p:cNvSpPr/>
          <p:nvPr/>
        </p:nvSpPr>
        <p:spPr>
          <a:xfrm>
            <a:off x="1260360" y="2421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21"/>
          <p:cNvSpPr/>
          <p:nvPr/>
        </p:nvSpPr>
        <p:spPr>
          <a:xfrm>
            <a:off x="1476360" y="2781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22"/>
          <p:cNvSpPr/>
          <p:nvPr/>
        </p:nvSpPr>
        <p:spPr>
          <a:xfrm>
            <a:off x="4284720" y="3068640"/>
            <a:ext cx="71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23"/>
          <p:cNvGrpSpPr/>
          <p:nvPr/>
        </p:nvGrpSpPr>
        <p:grpSpPr>
          <a:xfrm>
            <a:off x="3007080" y="3429000"/>
            <a:ext cx="1491120" cy="2521080"/>
            <a:chOff x="3007080" y="3429000"/>
            <a:chExt cx="1491120" cy="2521080"/>
          </a:xfrm>
        </p:grpSpPr>
        <p:sp>
          <p:nvSpPr>
            <p:cNvPr id="541" name="Rectangle 24"/>
            <p:cNvSpPr/>
            <p:nvPr/>
          </p:nvSpPr>
          <p:spPr>
            <a:xfrm>
              <a:off x="3203640" y="3429000"/>
              <a:ext cx="1152360" cy="25210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25"/>
            <p:cNvGrpSpPr/>
            <p:nvPr/>
          </p:nvGrpSpPr>
          <p:grpSpPr>
            <a:xfrm>
              <a:off x="3007080" y="3475080"/>
              <a:ext cx="1491120" cy="2401200"/>
              <a:chOff x="3007080" y="3475080"/>
              <a:chExt cx="1491120" cy="2401200"/>
            </a:xfrm>
          </p:grpSpPr>
          <p:sp>
            <p:nvSpPr>
              <p:cNvPr id="543" name="Text Box 26"/>
              <p:cNvSpPr/>
              <p:nvPr/>
            </p:nvSpPr>
            <p:spPr>
              <a:xfrm>
                <a:off x="3103200" y="5399280"/>
                <a:ext cx="139500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nticod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AutoShape 27"/>
              <p:cNvSpPr/>
              <p:nvPr/>
            </p:nvSpPr>
            <p:spPr>
              <a:xfrm rot="5340000">
                <a:off x="3668400" y="4976640"/>
                <a:ext cx="196560" cy="544320"/>
              </a:xfrm>
              <a:custGeom>
                <a:avLst/>
                <a:gdLst>
                  <a:gd name="textAreaLeft" fmla="*/ 0 w 196560"/>
                  <a:gd name="textAreaRight" fmla="*/ 137880 w 196560"/>
                  <a:gd name="textAreaTop" fmla="*/ 33840 h 544320"/>
                  <a:gd name="textAreaBottom" fmla="*/ 510480 h 54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350"/>
                      <a:pt x="21600" y="2700"/>
                    </a:cubicBezTo>
                    <a:lnTo>
                      <a:pt x="21600" y="18900"/>
                    </a:lnTo>
                    <a:cubicBezTo>
                      <a:pt x="21600" y="2025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5" name="Group 28"/>
              <p:cNvGrpSpPr/>
              <p:nvPr/>
            </p:nvGrpSpPr>
            <p:grpSpPr>
              <a:xfrm>
                <a:off x="3007080" y="3475080"/>
                <a:ext cx="1442520" cy="1719360"/>
                <a:chOff x="3007080" y="3475080"/>
                <a:chExt cx="1442520" cy="1719360"/>
              </a:xfrm>
            </p:grpSpPr>
            <p:grpSp>
              <p:nvGrpSpPr>
                <p:cNvPr id="546" name="Group 29"/>
                <p:cNvGrpSpPr/>
                <p:nvPr/>
              </p:nvGrpSpPr>
              <p:grpSpPr>
                <a:xfrm>
                  <a:off x="3007080" y="3475080"/>
                  <a:ext cx="1442520" cy="1719360"/>
                  <a:chOff x="3007080" y="3475080"/>
                  <a:chExt cx="1442520" cy="1719360"/>
                </a:xfrm>
              </p:grpSpPr>
              <p:grpSp>
                <p:nvGrpSpPr>
                  <p:cNvPr id="547" name="Group 30"/>
                  <p:cNvGrpSpPr/>
                  <p:nvPr/>
                </p:nvGrpSpPr>
                <p:grpSpPr>
                  <a:xfrm>
                    <a:off x="3578400" y="4912560"/>
                    <a:ext cx="373320" cy="281880"/>
                    <a:chOff x="3578400" y="4912560"/>
                    <a:chExt cx="373320" cy="281880"/>
                  </a:xfrm>
                </p:grpSpPr>
                <p:sp>
                  <p:nvSpPr>
                    <p:cNvPr id="548" name="Line 31"/>
                    <p:cNvSpPr/>
                    <p:nvPr/>
                  </p:nvSpPr>
                  <p:spPr>
                    <a:xfrm flipH="1">
                      <a:off x="3578400" y="4929120"/>
                      <a:ext cx="12240" cy="2638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Line 32"/>
                    <p:cNvSpPr/>
                    <p:nvPr/>
                  </p:nvSpPr>
                  <p:spPr>
                    <a:xfrm flipH="1">
                      <a:off x="3751560" y="4930920"/>
                      <a:ext cx="12240" cy="2635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Line 33"/>
                    <p:cNvSpPr/>
                    <p:nvPr/>
                  </p:nvSpPr>
                  <p:spPr>
                    <a:xfrm flipH="1">
                      <a:off x="3939120" y="4912560"/>
                      <a:ext cx="12600" cy="2631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1" name="Freeform 34"/>
                  <p:cNvSpPr/>
                  <p:nvPr/>
                </p:nvSpPr>
                <p:spPr>
                  <a:xfrm rot="3659400">
                    <a:off x="3076200" y="3806640"/>
                    <a:ext cx="1303920" cy="926280"/>
                  </a:xfrm>
                  <a:prstGeom prst="pie">
                    <a:avLst/>
                  </a:pr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2" name="Text Box 35"/>
                <p:cNvSpPr/>
                <p:nvPr/>
              </p:nvSpPr>
              <p:spPr>
                <a:xfrm>
                  <a:off x="3498120" y="4468320"/>
                  <a:ext cx="548280" cy="2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A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53" name="Group 36"/>
          <p:cNvGrpSpPr/>
          <p:nvPr/>
        </p:nvGrpSpPr>
        <p:grpSpPr>
          <a:xfrm>
            <a:off x="4788000" y="3879000"/>
            <a:ext cx="1706760" cy="2471040"/>
            <a:chOff x="4788000" y="3879000"/>
            <a:chExt cx="1706760" cy="2471040"/>
          </a:xfrm>
        </p:grpSpPr>
        <p:grpSp>
          <p:nvGrpSpPr>
            <p:cNvPr id="554" name="Group 37"/>
            <p:cNvGrpSpPr/>
            <p:nvPr/>
          </p:nvGrpSpPr>
          <p:grpSpPr>
            <a:xfrm>
              <a:off x="4788000" y="3879000"/>
              <a:ext cx="1706760" cy="2471040"/>
              <a:chOff x="4788000" y="3879000"/>
              <a:chExt cx="1706760" cy="2471040"/>
            </a:xfrm>
          </p:grpSpPr>
          <p:grpSp>
            <p:nvGrpSpPr>
              <p:cNvPr id="555" name="Group 38"/>
              <p:cNvGrpSpPr/>
              <p:nvPr/>
            </p:nvGrpSpPr>
            <p:grpSpPr>
              <a:xfrm>
                <a:off x="4843080" y="4383000"/>
                <a:ext cx="1651680" cy="1967040"/>
                <a:chOff x="4843080" y="4383000"/>
                <a:chExt cx="1651680" cy="1967040"/>
              </a:xfrm>
            </p:grpSpPr>
            <p:grpSp>
              <p:nvGrpSpPr>
                <p:cNvPr id="556" name="Group 39"/>
                <p:cNvGrpSpPr/>
                <p:nvPr/>
              </p:nvGrpSpPr>
              <p:grpSpPr>
                <a:xfrm>
                  <a:off x="5562360" y="6030720"/>
                  <a:ext cx="450720" cy="319320"/>
                  <a:chOff x="5562360" y="6030720"/>
                  <a:chExt cx="450720" cy="319320"/>
                </a:xfrm>
              </p:grpSpPr>
              <p:sp>
                <p:nvSpPr>
                  <p:cNvPr id="557" name="Line 40"/>
                  <p:cNvSpPr/>
                  <p:nvPr/>
                </p:nvSpPr>
                <p:spPr>
                  <a:xfrm>
                    <a:off x="5562360" y="6030720"/>
                    <a:ext cx="18000" cy="2926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Line 41"/>
                  <p:cNvSpPr/>
                  <p:nvPr/>
                </p:nvSpPr>
                <p:spPr>
                  <a:xfrm>
                    <a:off x="5771160" y="6054120"/>
                    <a:ext cx="18720" cy="2926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Line 42"/>
                  <p:cNvSpPr/>
                  <p:nvPr/>
                </p:nvSpPr>
                <p:spPr>
                  <a:xfrm>
                    <a:off x="5994720" y="6057360"/>
                    <a:ext cx="18360" cy="2926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0" name="Freeform 43"/>
                <p:cNvSpPr/>
                <p:nvPr/>
              </p:nvSpPr>
              <p:spPr>
                <a:xfrm rot="3659400">
                  <a:off x="4824360" y="4876200"/>
                  <a:ext cx="1688760" cy="952200"/>
                </a:xfrm>
                <a:prstGeom prst="pie">
                  <a:avLst/>
                </a:prstGeom>
                <a:noFill/>
                <a:ln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" name="Oval 44"/>
              <p:cNvSpPr/>
              <p:nvPr/>
            </p:nvSpPr>
            <p:spPr>
              <a:xfrm rot="1331400">
                <a:off x="4839840" y="4035960"/>
                <a:ext cx="921240" cy="4568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Text Box 45"/>
            <p:cNvSpPr/>
            <p:nvPr/>
          </p:nvSpPr>
          <p:spPr>
            <a:xfrm>
              <a:off x="5047920" y="4191120"/>
              <a:ext cx="73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M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46"/>
            <p:cNvSpPr/>
            <p:nvPr/>
          </p:nvSpPr>
          <p:spPr>
            <a:xfrm>
              <a:off x="5306040" y="5562720"/>
              <a:ext cx="7369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A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7"/>
          <p:cNvGrpSpPr/>
          <p:nvPr/>
        </p:nvGrpSpPr>
        <p:grpSpPr>
          <a:xfrm>
            <a:off x="7021440" y="934200"/>
            <a:ext cx="1867680" cy="485640"/>
            <a:chOff x="7021440" y="934200"/>
            <a:chExt cx="1867680" cy="485640"/>
          </a:xfrm>
        </p:grpSpPr>
        <p:grpSp>
          <p:nvGrpSpPr>
            <p:cNvPr id="565" name="Group 48"/>
            <p:cNvGrpSpPr/>
            <p:nvPr/>
          </p:nvGrpSpPr>
          <p:grpSpPr>
            <a:xfrm>
              <a:off x="7563240" y="934200"/>
              <a:ext cx="647280" cy="485640"/>
              <a:chOff x="7563240" y="934200"/>
              <a:chExt cx="647280" cy="485640"/>
            </a:xfrm>
          </p:grpSpPr>
          <p:sp>
            <p:nvSpPr>
              <p:cNvPr id="566" name="Oval 49"/>
              <p:cNvSpPr/>
              <p:nvPr/>
            </p:nvSpPr>
            <p:spPr>
              <a:xfrm rot="1331400">
                <a:off x="7595640" y="1033200"/>
                <a:ext cx="582120" cy="2869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50"/>
              <p:cNvSpPr/>
              <p:nvPr/>
            </p:nvSpPr>
            <p:spPr>
              <a:xfrm>
                <a:off x="7689240" y="1114200"/>
                <a:ext cx="375120" cy="12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M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Text Box 51"/>
            <p:cNvSpPr/>
            <p:nvPr/>
          </p:nvSpPr>
          <p:spPr>
            <a:xfrm>
              <a:off x="7021440" y="98100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nz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52"/>
            <p:cNvSpPr/>
            <p:nvPr/>
          </p:nvSpPr>
          <p:spPr>
            <a:xfrm>
              <a:off x="8124840" y="102564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-A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53"/>
          <p:cNvGrpSpPr/>
          <p:nvPr/>
        </p:nvGrpSpPr>
        <p:grpSpPr>
          <a:xfrm>
            <a:off x="6372360" y="3213000"/>
            <a:ext cx="1800000" cy="3241800"/>
            <a:chOff x="6372360" y="3213000"/>
            <a:chExt cx="1800000" cy="3241800"/>
          </a:xfrm>
        </p:grpSpPr>
        <p:grpSp>
          <p:nvGrpSpPr>
            <p:cNvPr id="571" name="Group 54"/>
            <p:cNvGrpSpPr/>
            <p:nvPr/>
          </p:nvGrpSpPr>
          <p:grpSpPr>
            <a:xfrm>
              <a:off x="6536160" y="3933720"/>
              <a:ext cx="1491120" cy="2521080"/>
              <a:chOff x="6536160" y="3933720"/>
              <a:chExt cx="1491120" cy="2521080"/>
            </a:xfrm>
          </p:grpSpPr>
          <p:sp>
            <p:nvSpPr>
              <p:cNvPr id="572" name="Rectangle 55"/>
              <p:cNvSpPr/>
              <p:nvPr/>
            </p:nvSpPr>
            <p:spPr>
              <a:xfrm>
                <a:off x="6732720" y="3933720"/>
                <a:ext cx="1152360" cy="252108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3" name="Group 56"/>
              <p:cNvGrpSpPr/>
              <p:nvPr/>
            </p:nvGrpSpPr>
            <p:grpSpPr>
              <a:xfrm>
                <a:off x="6536160" y="3979800"/>
                <a:ext cx="1491120" cy="2401200"/>
                <a:chOff x="6536160" y="3979800"/>
                <a:chExt cx="1491120" cy="2401200"/>
              </a:xfrm>
            </p:grpSpPr>
            <p:sp>
              <p:nvSpPr>
                <p:cNvPr id="574" name="Text Box 57"/>
                <p:cNvSpPr/>
                <p:nvPr/>
              </p:nvSpPr>
              <p:spPr>
                <a:xfrm>
                  <a:off x="6632280" y="5904000"/>
                  <a:ext cx="1395000" cy="47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nticod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AutoShape 58"/>
                <p:cNvSpPr/>
                <p:nvPr/>
              </p:nvSpPr>
              <p:spPr>
                <a:xfrm rot="5340000">
                  <a:off x="7197480" y="5481360"/>
                  <a:ext cx="196560" cy="544320"/>
                </a:xfrm>
                <a:custGeom>
                  <a:avLst/>
                  <a:gdLst>
                    <a:gd name="textAreaLeft" fmla="*/ 0 w 196560"/>
                    <a:gd name="textAreaRight" fmla="*/ 137880 w 196560"/>
                    <a:gd name="textAreaTop" fmla="*/ 33840 h 544320"/>
                    <a:gd name="textAreaBottom" fmla="*/ 510480 h 544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1350"/>
                        <a:pt x="21600" y="2700"/>
                      </a:cubicBezTo>
                      <a:lnTo>
                        <a:pt x="21600" y="18900"/>
                      </a:lnTo>
                      <a:cubicBezTo>
                        <a:pt x="21600" y="2025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6" name="Group 59"/>
                <p:cNvGrpSpPr/>
                <p:nvPr/>
              </p:nvGrpSpPr>
              <p:grpSpPr>
                <a:xfrm>
                  <a:off x="6536160" y="3979800"/>
                  <a:ext cx="1442520" cy="1719360"/>
                  <a:chOff x="6536160" y="3979800"/>
                  <a:chExt cx="1442520" cy="1719360"/>
                </a:xfrm>
              </p:grpSpPr>
              <p:grpSp>
                <p:nvGrpSpPr>
                  <p:cNvPr id="577" name="Group 60"/>
                  <p:cNvGrpSpPr/>
                  <p:nvPr/>
                </p:nvGrpSpPr>
                <p:grpSpPr>
                  <a:xfrm>
                    <a:off x="6536160" y="3979800"/>
                    <a:ext cx="1442520" cy="1719360"/>
                    <a:chOff x="6536160" y="3979800"/>
                    <a:chExt cx="1442520" cy="1719360"/>
                  </a:xfrm>
                </p:grpSpPr>
                <p:grpSp>
                  <p:nvGrpSpPr>
                    <p:cNvPr id="578" name="Group 61"/>
                    <p:cNvGrpSpPr/>
                    <p:nvPr/>
                  </p:nvGrpSpPr>
                  <p:grpSpPr>
                    <a:xfrm>
                      <a:off x="7107480" y="5417280"/>
                      <a:ext cx="373320" cy="281880"/>
                      <a:chOff x="7107480" y="5417280"/>
                      <a:chExt cx="373320" cy="281880"/>
                    </a:xfrm>
                  </p:grpSpPr>
                  <p:sp>
                    <p:nvSpPr>
                      <p:cNvPr id="579" name="Line 62"/>
                      <p:cNvSpPr/>
                      <p:nvPr/>
                    </p:nvSpPr>
                    <p:spPr>
                      <a:xfrm flipH="1">
                        <a:off x="7107480" y="5433840"/>
                        <a:ext cx="12240" cy="2638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0" name="Line 63"/>
                      <p:cNvSpPr/>
                      <p:nvPr/>
                    </p:nvSpPr>
                    <p:spPr>
                      <a:xfrm flipH="1">
                        <a:off x="7280640" y="5435640"/>
                        <a:ext cx="12240" cy="26352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1" name="Line 64"/>
                      <p:cNvSpPr/>
                      <p:nvPr/>
                    </p:nvSpPr>
                    <p:spPr>
                      <a:xfrm flipH="1">
                        <a:off x="7468200" y="5417280"/>
                        <a:ext cx="12600" cy="263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82" name="Freeform 65"/>
                    <p:cNvSpPr/>
                    <p:nvPr/>
                  </p:nvSpPr>
                  <p:spPr>
                    <a:xfrm rot="3659400">
                      <a:off x="6605280" y="4311360"/>
                      <a:ext cx="1303920" cy="926280"/>
                    </a:xfrm>
                    <a:prstGeom prst="pi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3" name="Text Box 66"/>
                  <p:cNvSpPr/>
                  <p:nvPr/>
                </p:nvSpPr>
                <p:spPr>
                  <a:xfrm>
                    <a:off x="7027200" y="4973040"/>
                    <a:ext cx="548280" cy="20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UA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84" name="Oval 67"/>
            <p:cNvSpPr/>
            <p:nvPr/>
          </p:nvSpPr>
          <p:spPr>
            <a:xfrm>
              <a:off x="6372360" y="3213000"/>
              <a:ext cx="1800000" cy="86364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Aminoáci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Text Box 68"/>
          <p:cNvSpPr/>
          <p:nvPr/>
        </p:nvSpPr>
        <p:spPr>
          <a:xfrm>
            <a:off x="3132000" y="1916280"/>
            <a:ext cx="720720" cy="368280"/>
          </a:xfrm>
          <a:prstGeom prst="rect">
            <a:avLst/>
          </a:prstGeom>
          <a:solidFill>
            <a:srgbClr val="faf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es-AR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69"/>
          <p:cNvSpPr/>
          <p:nvPr/>
        </p:nvSpPr>
        <p:spPr>
          <a:xfrm>
            <a:off x="4284720" y="1916280"/>
            <a:ext cx="647640" cy="368280"/>
          </a:xfrm>
          <a:prstGeom prst="rect">
            <a:avLst/>
          </a:prstGeom>
          <a:solidFill>
            <a:srgbClr val="faf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70"/>
          <p:cNvSpPr/>
          <p:nvPr/>
        </p:nvSpPr>
        <p:spPr>
          <a:xfrm>
            <a:off x="3924360" y="1773360"/>
            <a:ext cx="360360" cy="142920"/>
          </a:xfrm>
          <a:custGeom>
            <a:avLst/>
            <a:gdLst>
              <a:gd name="textAreaLeft" fmla="*/ 63000 w 360360"/>
              <a:gd name="textAreaRight" fmla="*/ 261360 w 36036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9360">
            <a:solidFill>
              <a:srgbClr val="00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ESTRUCTURA DE RNA TRANSFERENCIAL (RNAt) y unión del AMINOAC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9" name="Picture 3" descr="tRNA-estructura"/>
          <p:cNvPicPr/>
          <p:nvPr/>
        </p:nvPicPr>
        <p:blipFill>
          <a:blip r:embed="rId1"/>
          <a:srcRect l="0" t="0" r="36665" b="45284"/>
          <a:stretch/>
        </p:blipFill>
        <p:spPr>
          <a:xfrm>
            <a:off x="228600" y="1371600"/>
            <a:ext cx="4951440" cy="51814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2" descr="figure 26-06"/>
          <p:cNvPicPr/>
          <p:nvPr/>
        </p:nvPicPr>
        <p:blipFill>
          <a:blip r:embed="rId2"/>
          <a:srcRect l="0" t="0" r="0" b="14296"/>
          <a:stretch/>
        </p:blipFill>
        <p:spPr>
          <a:xfrm>
            <a:off x="4648320" y="1752480"/>
            <a:ext cx="392436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4608360" y="189000"/>
            <a:ext cx="4356360" cy="11509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raducción de Proteínas. Alargamiento de la cadena peptíd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34920" y="2492280"/>
            <a:ext cx="1441440" cy="5763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od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2484360" y="189000"/>
            <a:ext cx="1800360" cy="576000"/>
          </a:xfrm>
          <a:prstGeom prst="rect">
            <a:avLst/>
          </a:prstGeom>
          <a:solidFill>
            <a:srgbClr val="ff99cc"/>
          </a:solidFill>
          <a:ln w="93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jo de inicio 7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5"/>
          <p:cNvSpPr/>
          <p:nvPr/>
        </p:nvSpPr>
        <p:spPr>
          <a:xfrm>
            <a:off x="1835280" y="2852640"/>
            <a:ext cx="208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minoacil-t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6"/>
          <p:cNvSpPr/>
          <p:nvPr/>
        </p:nvSpPr>
        <p:spPr>
          <a:xfrm>
            <a:off x="468360" y="6400800"/>
            <a:ext cx="431964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ón del Aminoacil-tARN entr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7"/>
          <p:cNvSpPr/>
          <p:nvPr/>
        </p:nvSpPr>
        <p:spPr>
          <a:xfrm>
            <a:off x="2389320" y="34815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rc 8"/>
          <p:cNvSpPr/>
          <p:nvPr/>
        </p:nvSpPr>
        <p:spPr>
          <a:xfrm flipH="1" flipV="1" rot="14534400">
            <a:off x="1475280" y="2997000"/>
            <a:ext cx="317520" cy="7509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1563480" y="1973160"/>
            <a:ext cx="554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0"/>
          <p:cNvSpPr/>
          <p:nvPr/>
        </p:nvSpPr>
        <p:spPr>
          <a:xfrm>
            <a:off x="4140360" y="5734080"/>
            <a:ext cx="1512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1"/>
          <p:cNvSpPr/>
          <p:nvPr/>
        </p:nvSpPr>
        <p:spPr>
          <a:xfrm>
            <a:off x="3706200" y="572940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00"/>
                </a:solidFill>
                <a:latin typeface="Arial"/>
              </a:rPr>
              <a:t>Peptidil transf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12"/>
          <p:cNvGrpSpPr/>
          <p:nvPr/>
        </p:nvGrpSpPr>
        <p:grpSpPr>
          <a:xfrm>
            <a:off x="6259680" y="1268280"/>
            <a:ext cx="2884320" cy="2118600"/>
            <a:chOff x="6259680" y="1268280"/>
            <a:chExt cx="2884320" cy="2118600"/>
          </a:xfrm>
        </p:grpSpPr>
        <p:grpSp>
          <p:nvGrpSpPr>
            <p:cNvPr id="602" name="Group 13"/>
            <p:cNvGrpSpPr/>
            <p:nvPr/>
          </p:nvGrpSpPr>
          <p:grpSpPr>
            <a:xfrm>
              <a:off x="6629400" y="1268280"/>
              <a:ext cx="2514600" cy="2118600"/>
              <a:chOff x="6629400" y="1268280"/>
              <a:chExt cx="2514600" cy="2118600"/>
            </a:xfrm>
          </p:grpSpPr>
          <p:sp>
            <p:nvSpPr>
              <p:cNvPr id="603" name="Text Box 14"/>
              <p:cNvSpPr/>
              <p:nvPr/>
            </p:nvSpPr>
            <p:spPr>
              <a:xfrm>
                <a:off x="8839080" y="2792160"/>
                <a:ext cx="3049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Oval 15"/>
              <p:cNvSpPr/>
              <p:nvPr/>
            </p:nvSpPr>
            <p:spPr>
              <a:xfrm>
                <a:off x="7238880" y="2124000"/>
                <a:ext cx="1371600" cy="9018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>
                      <a:alpha val="47058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Oval 16"/>
              <p:cNvSpPr/>
              <p:nvPr/>
            </p:nvSpPr>
            <p:spPr>
              <a:xfrm rot="21459600">
                <a:off x="7238520" y="2910960"/>
                <a:ext cx="1371600" cy="44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538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" name="Group 17"/>
              <p:cNvGrpSpPr/>
              <p:nvPr/>
            </p:nvGrpSpPr>
            <p:grpSpPr>
              <a:xfrm>
                <a:off x="8077320" y="2236680"/>
                <a:ext cx="304560" cy="1008000"/>
                <a:chOff x="8077320" y="2236680"/>
                <a:chExt cx="304560" cy="1008000"/>
              </a:xfrm>
            </p:grpSpPr>
            <p:sp>
              <p:nvSpPr>
                <p:cNvPr id="607" name="AutoShape 18"/>
                <p:cNvSpPr/>
                <p:nvPr/>
              </p:nvSpPr>
              <p:spPr>
                <a:xfrm>
                  <a:off x="8077320" y="2236680"/>
                  <a:ext cx="304560" cy="1008000"/>
                </a:xfrm>
                <a:custGeom>
                  <a:avLst/>
                  <a:gdLst>
                    <a:gd name="textAreaLeft" fmla="*/ 14760 w 304560"/>
                    <a:gd name="textAreaRight" fmla="*/ 289800 w 304560"/>
                    <a:gd name="textAreaTop" fmla="*/ 14760 h 1008000"/>
                    <a:gd name="textAreaBottom" fmla="*/ 993240 h 1008000"/>
                  </a:gdLst>
                  <a:ahLst/>
                  <a:rect l="textAreaLeft" t="textAreaTop" r="textAreaRight" b="textAreaBottom"/>
                  <a:pathLst>
                    <a:path w="21600" h="71430">
                      <a:moveTo>
                        <a:pt x="3600" y="0"/>
                      </a:moveTo>
                      <a:arcTo wR="3600" hR="3600" stAng="16200000" swAng="-5400000"/>
                      <a:lnTo>
                        <a:pt x="0" y="67830"/>
                      </a:lnTo>
                      <a:arcTo wR="3600" hR="3600" stAng="10800000" swAng="-5400000"/>
                      <a:lnTo>
                        <a:pt x="18000" y="7143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Text Box 19"/>
                <p:cNvSpPr/>
                <p:nvPr/>
              </p:nvSpPr>
              <p:spPr>
                <a:xfrm>
                  <a:off x="8077320" y="3030840"/>
                  <a:ext cx="273960" cy="14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" name="Text Box 20"/>
              <p:cNvSpPr/>
              <p:nvPr/>
            </p:nvSpPr>
            <p:spPr>
              <a:xfrm>
                <a:off x="6629400" y="2843280"/>
                <a:ext cx="30492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0" name="Group 21"/>
              <p:cNvGrpSpPr/>
              <p:nvPr/>
            </p:nvGrpSpPr>
            <p:grpSpPr>
              <a:xfrm>
                <a:off x="7604280" y="2236680"/>
                <a:ext cx="457200" cy="1042920"/>
                <a:chOff x="7604280" y="2236680"/>
                <a:chExt cx="457200" cy="1042920"/>
              </a:xfrm>
            </p:grpSpPr>
            <p:sp>
              <p:nvSpPr>
                <p:cNvPr id="611" name="AutoShape 22"/>
                <p:cNvSpPr/>
                <p:nvPr/>
              </p:nvSpPr>
              <p:spPr>
                <a:xfrm>
                  <a:off x="7619400" y="2236680"/>
                  <a:ext cx="380880" cy="1042920"/>
                </a:xfrm>
                <a:custGeom>
                  <a:avLst/>
                  <a:gdLst>
                    <a:gd name="textAreaLeft" fmla="*/ 18360 w 380880"/>
                    <a:gd name="textAreaRight" fmla="*/ 362520 w 380880"/>
                    <a:gd name="textAreaTop" fmla="*/ 18360 h 1042920"/>
                    <a:gd name="textAreaBottom" fmla="*/ 1024560 h 1042920"/>
                  </a:gdLst>
                  <a:ahLst/>
                  <a:rect l="textAreaLeft" t="textAreaTop" r="textAreaRight" b="textAreaBottom"/>
                  <a:pathLst>
                    <a:path w="21600" h="59109">
                      <a:moveTo>
                        <a:pt x="3600" y="0"/>
                      </a:moveTo>
                      <a:arcTo wR="3600" hR="3600" stAng="16200000" swAng="-5400000"/>
                      <a:lnTo>
                        <a:pt x="0" y="55509"/>
                      </a:lnTo>
                      <a:arcTo wR="3600" hR="3600" stAng="10800000" swAng="-5400000"/>
                      <a:lnTo>
                        <a:pt x="18000" y="5910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Text Box 23"/>
                <p:cNvSpPr/>
                <p:nvPr/>
              </p:nvSpPr>
              <p:spPr>
                <a:xfrm>
                  <a:off x="7657560" y="3087000"/>
                  <a:ext cx="343080" cy="17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Text Box 24"/>
                <p:cNvSpPr/>
                <p:nvPr/>
              </p:nvSpPr>
              <p:spPr>
                <a:xfrm>
                  <a:off x="7604280" y="2956320"/>
                  <a:ext cx="457200" cy="11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4" name="Group 25"/>
              <p:cNvGrpSpPr/>
              <p:nvPr/>
            </p:nvGrpSpPr>
            <p:grpSpPr>
              <a:xfrm>
                <a:off x="6858000" y="2768760"/>
                <a:ext cx="2057400" cy="152280"/>
                <a:chOff x="6858000" y="2768760"/>
                <a:chExt cx="2057400" cy="152280"/>
              </a:xfrm>
            </p:grpSpPr>
            <p:grpSp>
              <p:nvGrpSpPr>
                <p:cNvPr id="615" name="Group 26"/>
                <p:cNvGrpSpPr/>
                <p:nvPr/>
              </p:nvGrpSpPr>
              <p:grpSpPr>
                <a:xfrm>
                  <a:off x="6953040" y="2769840"/>
                  <a:ext cx="190440" cy="145800"/>
                  <a:chOff x="6953040" y="2769840"/>
                  <a:chExt cx="190440" cy="145800"/>
                </a:xfrm>
              </p:grpSpPr>
              <p:sp>
                <p:nvSpPr>
                  <p:cNvPr id="616" name="Line 27"/>
                  <p:cNvSpPr/>
                  <p:nvPr/>
                </p:nvSpPr>
                <p:spPr>
                  <a:xfrm flipH="1">
                    <a:off x="6953040" y="2778120"/>
                    <a:ext cx="1080" cy="136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Line 28"/>
                  <p:cNvSpPr/>
                  <p:nvPr/>
                </p:nvSpPr>
                <p:spPr>
                  <a:xfrm flipH="1">
                    <a:off x="7044480" y="2779200"/>
                    <a:ext cx="720" cy="1364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Line 29"/>
                  <p:cNvSpPr/>
                  <p:nvPr/>
                </p:nvSpPr>
                <p:spPr>
                  <a:xfrm flipH="1">
                    <a:off x="7142760" y="2769840"/>
                    <a:ext cx="720" cy="1364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9" name="Group 30"/>
                <p:cNvGrpSpPr/>
                <p:nvPr/>
              </p:nvGrpSpPr>
              <p:grpSpPr>
                <a:xfrm>
                  <a:off x="7334280" y="2768760"/>
                  <a:ext cx="190080" cy="147240"/>
                  <a:chOff x="7334280" y="2768760"/>
                  <a:chExt cx="190080" cy="147240"/>
                </a:xfrm>
              </p:grpSpPr>
              <p:sp>
                <p:nvSpPr>
                  <p:cNvPr id="620" name="Line 31"/>
                  <p:cNvSpPr/>
                  <p:nvPr/>
                </p:nvSpPr>
                <p:spPr>
                  <a:xfrm>
                    <a:off x="7334280" y="2779200"/>
                    <a:ext cx="360" cy="136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Line 32"/>
                  <p:cNvSpPr/>
                  <p:nvPr/>
                </p:nvSpPr>
                <p:spPr>
                  <a:xfrm>
                    <a:off x="7425360" y="2779200"/>
                    <a:ext cx="1080" cy="1364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Line 33"/>
                  <p:cNvSpPr/>
                  <p:nvPr/>
                </p:nvSpPr>
                <p:spPr>
                  <a:xfrm>
                    <a:off x="7523640" y="2768760"/>
                    <a:ext cx="720" cy="1364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3" name="Group 34"/>
                <p:cNvGrpSpPr/>
                <p:nvPr/>
              </p:nvGrpSpPr>
              <p:grpSpPr>
                <a:xfrm>
                  <a:off x="7714440" y="2769840"/>
                  <a:ext cx="191160" cy="145800"/>
                  <a:chOff x="7714440" y="2769840"/>
                  <a:chExt cx="191160" cy="145800"/>
                </a:xfrm>
              </p:grpSpPr>
              <p:sp>
                <p:nvSpPr>
                  <p:cNvPr id="624" name="Line 35"/>
                  <p:cNvSpPr/>
                  <p:nvPr/>
                </p:nvSpPr>
                <p:spPr>
                  <a:xfrm flipH="1">
                    <a:off x="7714440" y="2777760"/>
                    <a:ext cx="1440" cy="136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Line 36"/>
                  <p:cNvSpPr/>
                  <p:nvPr/>
                </p:nvSpPr>
                <p:spPr>
                  <a:xfrm flipH="1">
                    <a:off x="7806240" y="2779200"/>
                    <a:ext cx="720" cy="1364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Line 37"/>
                  <p:cNvSpPr/>
                  <p:nvPr/>
                </p:nvSpPr>
                <p:spPr>
                  <a:xfrm flipH="1">
                    <a:off x="7904520" y="2769840"/>
                    <a:ext cx="1080" cy="136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7" name="Group 38"/>
                <p:cNvGrpSpPr/>
                <p:nvPr/>
              </p:nvGrpSpPr>
              <p:grpSpPr>
                <a:xfrm>
                  <a:off x="8094600" y="2771640"/>
                  <a:ext cx="193320" cy="144000"/>
                  <a:chOff x="8094600" y="2771640"/>
                  <a:chExt cx="193320" cy="144000"/>
                </a:xfrm>
              </p:grpSpPr>
              <p:sp>
                <p:nvSpPr>
                  <p:cNvPr id="628" name="Line 39"/>
                  <p:cNvSpPr/>
                  <p:nvPr/>
                </p:nvSpPr>
                <p:spPr>
                  <a:xfrm flipH="1">
                    <a:off x="8094600" y="2776320"/>
                    <a:ext cx="3600" cy="136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Line 40"/>
                  <p:cNvSpPr/>
                  <p:nvPr/>
                </p:nvSpPr>
                <p:spPr>
                  <a:xfrm flipH="1">
                    <a:off x="8186400" y="2778840"/>
                    <a:ext cx="2880" cy="136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Line 41"/>
                  <p:cNvSpPr/>
                  <p:nvPr/>
                </p:nvSpPr>
                <p:spPr>
                  <a:xfrm flipH="1">
                    <a:off x="8284680" y="2771640"/>
                    <a:ext cx="3240" cy="1364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Line 42"/>
                <p:cNvSpPr/>
                <p:nvPr/>
              </p:nvSpPr>
              <p:spPr>
                <a:xfrm>
                  <a:off x="6858000" y="2921040"/>
                  <a:ext cx="2057400" cy="0"/>
                </a:xfrm>
                <a:prstGeom prst="line">
                  <a:avLst/>
                </a:prstGeom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2" name="Group 43"/>
                <p:cNvGrpSpPr/>
                <p:nvPr/>
              </p:nvGrpSpPr>
              <p:grpSpPr>
                <a:xfrm>
                  <a:off x="8475480" y="2771640"/>
                  <a:ext cx="193320" cy="144000"/>
                  <a:chOff x="8475480" y="2771640"/>
                  <a:chExt cx="193320" cy="144000"/>
                </a:xfrm>
              </p:grpSpPr>
              <p:sp>
                <p:nvSpPr>
                  <p:cNvPr id="633" name="Line 44"/>
                  <p:cNvSpPr/>
                  <p:nvPr/>
                </p:nvSpPr>
                <p:spPr>
                  <a:xfrm flipH="1">
                    <a:off x="8475480" y="2776320"/>
                    <a:ext cx="3600" cy="136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Line 45"/>
                  <p:cNvSpPr/>
                  <p:nvPr/>
                </p:nvSpPr>
                <p:spPr>
                  <a:xfrm flipH="1">
                    <a:off x="8566920" y="2778840"/>
                    <a:ext cx="3240" cy="136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Line 46"/>
                  <p:cNvSpPr/>
                  <p:nvPr/>
                </p:nvSpPr>
                <p:spPr>
                  <a:xfrm flipH="1">
                    <a:off x="8665560" y="2771640"/>
                    <a:ext cx="3240" cy="1364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6" name="Group 47"/>
              <p:cNvGrpSpPr/>
              <p:nvPr/>
            </p:nvGrpSpPr>
            <p:grpSpPr>
              <a:xfrm>
                <a:off x="6699240" y="1268280"/>
                <a:ext cx="1463040" cy="1465200"/>
                <a:chOff x="6699240" y="1268280"/>
                <a:chExt cx="1463040" cy="1465200"/>
              </a:xfrm>
            </p:grpSpPr>
            <p:grpSp>
              <p:nvGrpSpPr>
                <p:cNvPr id="637" name="Group 48"/>
                <p:cNvGrpSpPr/>
                <p:nvPr/>
              </p:nvGrpSpPr>
              <p:grpSpPr>
                <a:xfrm>
                  <a:off x="7135560" y="1347840"/>
                  <a:ext cx="438840" cy="353880"/>
                  <a:chOff x="7135560" y="1347840"/>
                  <a:chExt cx="438840" cy="353880"/>
                </a:xfrm>
              </p:grpSpPr>
              <p:sp>
                <p:nvSpPr>
                  <p:cNvPr id="638" name="Oval 49"/>
                  <p:cNvSpPr/>
                  <p:nvPr/>
                </p:nvSpPr>
                <p:spPr>
                  <a:xfrm rot="1331400">
                    <a:off x="7164000" y="1411200"/>
                    <a:ext cx="381240" cy="2268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Text Box 50"/>
                  <p:cNvSpPr/>
                  <p:nvPr/>
                </p:nvSpPr>
                <p:spPr>
                  <a:xfrm>
                    <a:off x="7226280" y="1471320"/>
                    <a:ext cx="304920" cy="11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fMe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0" name="Group 51"/>
                <p:cNvGrpSpPr/>
                <p:nvPr/>
              </p:nvGrpSpPr>
              <p:grpSpPr>
                <a:xfrm>
                  <a:off x="7409880" y="1563840"/>
                  <a:ext cx="752400" cy="1169640"/>
                  <a:chOff x="7409880" y="1563840"/>
                  <a:chExt cx="752400" cy="1169640"/>
                </a:xfrm>
              </p:grpSpPr>
              <p:grpSp>
                <p:nvGrpSpPr>
                  <p:cNvPr id="641" name="Group 52"/>
                  <p:cNvGrpSpPr/>
                  <p:nvPr/>
                </p:nvGrpSpPr>
                <p:grpSpPr>
                  <a:xfrm>
                    <a:off x="7409880" y="1837440"/>
                    <a:ext cx="752400" cy="896040"/>
                    <a:chOff x="7409880" y="1837440"/>
                    <a:chExt cx="752400" cy="896040"/>
                  </a:xfrm>
                </p:grpSpPr>
                <p:grpSp>
                  <p:nvGrpSpPr>
                    <p:cNvPr id="642" name="Group 53"/>
                    <p:cNvGrpSpPr/>
                    <p:nvPr/>
                  </p:nvGrpSpPr>
                  <p:grpSpPr>
                    <a:xfrm>
                      <a:off x="7715520" y="2589480"/>
                      <a:ext cx="193320" cy="144000"/>
                      <a:chOff x="7715520" y="2589480"/>
                      <a:chExt cx="193320" cy="144000"/>
                    </a:xfrm>
                  </p:grpSpPr>
                  <p:sp>
                    <p:nvSpPr>
                      <p:cNvPr id="643" name="Line 54"/>
                      <p:cNvSpPr/>
                      <p:nvPr/>
                    </p:nvSpPr>
                    <p:spPr>
                      <a:xfrm flipH="1">
                        <a:off x="7715520" y="2594160"/>
                        <a:ext cx="3600" cy="1364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4" name="Line 55"/>
                      <p:cNvSpPr/>
                      <p:nvPr/>
                    </p:nvSpPr>
                    <p:spPr>
                      <a:xfrm flipH="1">
                        <a:off x="7806960" y="2597040"/>
                        <a:ext cx="3240" cy="1364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5" name="Line 56"/>
                      <p:cNvSpPr/>
                      <p:nvPr/>
                    </p:nvSpPr>
                    <p:spPr>
                      <a:xfrm flipH="1">
                        <a:off x="7905240" y="2589480"/>
                        <a:ext cx="3600" cy="1364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46" name="Freeform 57"/>
                    <p:cNvSpPr/>
                    <p:nvPr/>
                  </p:nvSpPr>
                  <p:spPr>
                    <a:xfrm rot="3659400">
                      <a:off x="7436520" y="2020680"/>
                      <a:ext cx="698400" cy="473040"/>
                    </a:xfrm>
                    <a:prstGeom prst="pi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7" name="Group 58"/>
                  <p:cNvGrpSpPr/>
                  <p:nvPr/>
                </p:nvGrpSpPr>
                <p:grpSpPr>
                  <a:xfrm>
                    <a:off x="7441200" y="1563840"/>
                    <a:ext cx="438480" cy="353880"/>
                    <a:chOff x="7441200" y="1563840"/>
                    <a:chExt cx="438480" cy="353880"/>
                  </a:xfrm>
                </p:grpSpPr>
                <p:sp>
                  <p:nvSpPr>
                    <p:cNvPr id="648" name="Oval 59"/>
                    <p:cNvSpPr/>
                    <p:nvPr/>
                  </p:nvSpPr>
                  <p:spPr>
                    <a:xfrm rot="1331400">
                      <a:off x="7469640" y="1627200"/>
                      <a:ext cx="380880" cy="2268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Text Box 60"/>
                    <p:cNvSpPr/>
                    <p:nvPr/>
                  </p:nvSpPr>
                  <p:spPr>
                    <a:xfrm>
                      <a:off x="7531560" y="1686960"/>
                      <a:ext cx="304560" cy="113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0" name="Text Box 61"/>
                  <p:cNvSpPr/>
                  <p:nvPr/>
                </p:nvSpPr>
                <p:spPr>
                  <a:xfrm>
                    <a:off x="7638480" y="2367720"/>
                    <a:ext cx="304560" cy="11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1" name="Text Box 62"/>
                <p:cNvSpPr/>
                <p:nvPr/>
              </p:nvSpPr>
              <p:spPr>
                <a:xfrm>
                  <a:off x="6699240" y="1268280"/>
                  <a:ext cx="5540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H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2" name="Text Box 63"/>
            <p:cNvSpPr/>
            <p:nvPr/>
          </p:nvSpPr>
          <p:spPr>
            <a:xfrm>
              <a:off x="7199280" y="2954160"/>
              <a:ext cx="457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64"/>
            <p:cNvGrpSpPr/>
            <p:nvPr/>
          </p:nvGrpSpPr>
          <p:grpSpPr>
            <a:xfrm>
              <a:off x="6259680" y="1731960"/>
              <a:ext cx="831240" cy="780120"/>
              <a:chOff x="6259680" y="1731960"/>
              <a:chExt cx="831240" cy="780120"/>
            </a:xfrm>
          </p:grpSpPr>
          <p:grpSp>
            <p:nvGrpSpPr>
              <p:cNvPr id="654" name="Group 65"/>
              <p:cNvGrpSpPr/>
              <p:nvPr/>
            </p:nvGrpSpPr>
            <p:grpSpPr>
              <a:xfrm>
                <a:off x="6259680" y="1731960"/>
                <a:ext cx="831240" cy="780120"/>
                <a:chOff x="6259680" y="1731960"/>
                <a:chExt cx="831240" cy="780120"/>
              </a:xfrm>
            </p:grpSpPr>
            <p:grpSp>
              <p:nvGrpSpPr>
                <p:cNvPr id="655" name="Group 66"/>
                <p:cNvGrpSpPr/>
                <p:nvPr/>
              </p:nvGrpSpPr>
              <p:grpSpPr>
                <a:xfrm>
                  <a:off x="6823440" y="2283480"/>
                  <a:ext cx="227880" cy="228600"/>
                  <a:chOff x="6823440" y="2283480"/>
                  <a:chExt cx="227880" cy="228600"/>
                </a:xfrm>
              </p:grpSpPr>
              <p:sp>
                <p:nvSpPr>
                  <p:cNvPr id="656" name="Line 67"/>
                  <p:cNvSpPr/>
                  <p:nvPr/>
                </p:nvSpPr>
                <p:spPr>
                  <a:xfrm>
                    <a:off x="6823440" y="2400480"/>
                    <a:ext cx="78480" cy="1116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Line 68"/>
                  <p:cNvSpPr/>
                  <p:nvPr/>
                </p:nvSpPr>
                <p:spPr>
                  <a:xfrm>
                    <a:off x="6897960" y="2348280"/>
                    <a:ext cx="79200" cy="1116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Line 69"/>
                  <p:cNvSpPr/>
                  <p:nvPr/>
                </p:nvSpPr>
                <p:spPr>
                  <a:xfrm>
                    <a:off x="6972840" y="2283480"/>
                    <a:ext cx="78480" cy="1116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9" name="Freeform 70"/>
                <p:cNvSpPr/>
                <p:nvPr/>
              </p:nvSpPr>
              <p:spPr>
                <a:xfrm rot="1456200">
                  <a:off x="6325920" y="1854360"/>
                  <a:ext cx="698400" cy="472680"/>
                </a:xfrm>
                <a:prstGeom prst="pie">
                  <a:avLst/>
                </a:prstGeom>
                <a:noFill/>
                <a:ln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0" name="Text Box 71"/>
              <p:cNvSpPr/>
              <p:nvPr/>
            </p:nvSpPr>
            <p:spPr>
              <a:xfrm rot="19396800">
                <a:off x="6627600" y="2166480"/>
                <a:ext cx="304560" cy="11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UA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1" name="Group 72"/>
          <p:cNvGrpSpPr/>
          <p:nvPr/>
        </p:nvGrpSpPr>
        <p:grpSpPr>
          <a:xfrm>
            <a:off x="7379280" y="2923920"/>
            <a:ext cx="1864080" cy="1371240"/>
            <a:chOff x="7379280" y="2923920"/>
            <a:chExt cx="1864080" cy="1371240"/>
          </a:xfrm>
        </p:grpSpPr>
        <p:sp>
          <p:nvSpPr>
            <p:cNvPr id="662" name="Arc 73"/>
            <p:cNvSpPr/>
            <p:nvPr/>
          </p:nvSpPr>
          <p:spPr>
            <a:xfrm flipV="1">
              <a:off x="7883280" y="2923560"/>
              <a:ext cx="720360" cy="12970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74"/>
            <p:cNvSpPr/>
            <p:nvPr/>
          </p:nvSpPr>
          <p:spPr>
            <a:xfrm>
              <a:off x="7379280" y="3284640"/>
              <a:ext cx="122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Transloc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Arc 75"/>
            <p:cNvSpPr/>
            <p:nvPr/>
          </p:nvSpPr>
          <p:spPr>
            <a:xfrm flipH="1" rot="915600">
              <a:off x="8469000" y="3416400"/>
              <a:ext cx="419040" cy="6620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76"/>
            <p:cNvSpPr/>
            <p:nvPr/>
          </p:nvSpPr>
          <p:spPr>
            <a:xfrm>
              <a:off x="8251200" y="39880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77"/>
            <p:cNvSpPr/>
            <p:nvPr/>
          </p:nvSpPr>
          <p:spPr>
            <a:xfrm>
              <a:off x="8677080" y="3284640"/>
              <a:ext cx="56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D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+ P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Text Box 78"/>
          <p:cNvSpPr/>
          <p:nvPr/>
        </p:nvSpPr>
        <p:spPr>
          <a:xfrm>
            <a:off x="468360" y="1557360"/>
            <a:ext cx="3049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79"/>
          <p:cNvGrpSpPr/>
          <p:nvPr/>
        </p:nvGrpSpPr>
        <p:grpSpPr>
          <a:xfrm>
            <a:off x="247680" y="-120240"/>
            <a:ext cx="3475080" cy="2496240"/>
            <a:chOff x="247680" y="-120240"/>
            <a:chExt cx="3475080" cy="2496240"/>
          </a:xfrm>
        </p:grpSpPr>
        <p:sp>
          <p:nvSpPr>
            <p:cNvPr id="669" name="Text Box 80"/>
            <p:cNvSpPr/>
            <p:nvPr/>
          </p:nvSpPr>
          <p:spPr>
            <a:xfrm>
              <a:off x="247680" y="1628640"/>
              <a:ext cx="11430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81"/>
            <p:cNvSpPr/>
            <p:nvPr/>
          </p:nvSpPr>
          <p:spPr>
            <a:xfrm>
              <a:off x="1382760" y="865080"/>
              <a:ext cx="1371600" cy="9082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>
                    <a:alpha val="4705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82"/>
            <p:cNvSpPr/>
            <p:nvPr/>
          </p:nvSpPr>
          <p:spPr>
            <a:xfrm>
              <a:off x="3417840" y="1582560"/>
              <a:ext cx="30492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83"/>
            <p:cNvSpPr/>
            <p:nvPr/>
          </p:nvSpPr>
          <p:spPr>
            <a:xfrm rot="21459600">
              <a:off x="1258920" y="1823760"/>
              <a:ext cx="1776240" cy="515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538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Group 84"/>
            <p:cNvGrpSpPr/>
            <p:nvPr/>
          </p:nvGrpSpPr>
          <p:grpSpPr>
            <a:xfrm>
              <a:off x="752400" y="1646640"/>
              <a:ext cx="2665440" cy="175680"/>
              <a:chOff x="752400" y="1646640"/>
              <a:chExt cx="2665440" cy="175680"/>
            </a:xfrm>
          </p:grpSpPr>
          <p:grpSp>
            <p:nvGrpSpPr>
              <p:cNvPr id="674" name="Group 85"/>
              <p:cNvGrpSpPr/>
              <p:nvPr/>
            </p:nvGrpSpPr>
            <p:grpSpPr>
              <a:xfrm>
                <a:off x="876600" y="1649160"/>
                <a:ext cx="244800" cy="170280"/>
                <a:chOff x="876600" y="1649160"/>
                <a:chExt cx="244800" cy="170280"/>
              </a:xfrm>
            </p:grpSpPr>
            <p:sp>
              <p:nvSpPr>
                <p:cNvPr id="675" name="Line 86"/>
                <p:cNvSpPr/>
                <p:nvPr/>
              </p:nvSpPr>
              <p:spPr>
                <a:xfrm>
                  <a:off x="876600" y="1649160"/>
                  <a:ext cx="8280" cy="162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Line 87"/>
                <p:cNvSpPr/>
                <p:nvPr/>
              </p:nvSpPr>
              <p:spPr>
                <a:xfrm>
                  <a:off x="990360" y="1656000"/>
                  <a:ext cx="8640" cy="163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Line 88"/>
                <p:cNvSpPr/>
                <p:nvPr/>
              </p:nvSpPr>
              <p:spPr>
                <a:xfrm>
                  <a:off x="1112760" y="1651680"/>
                  <a:ext cx="8640" cy="163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Group 89"/>
              <p:cNvGrpSpPr/>
              <p:nvPr/>
            </p:nvGrpSpPr>
            <p:grpSpPr>
              <a:xfrm>
                <a:off x="1369440" y="1650240"/>
                <a:ext cx="246240" cy="169200"/>
                <a:chOff x="1369440" y="1650240"/>
                <a:chExt cx="246240" cy="169200"/>
              </a:xfrm>
            </p:grpSpPr>
            <p:sp>
              <p:nvSpPr>
                <p:cNvPr id="679" name="Line 90"/>
                <p:cNvSpPr/>
                <p:nvPr/>
              </p:nvSpPr>
              <p:spPr>
                <a:xfrm>
                  <a:off x="1369440" y="1650240"/>
                  <a:ext cx="9720" cy="162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91"/>
                <p:cNvSpPr/>
                <p:nvPr/>
              </p:nvSpPr>
              <p:spPr>
                <a:xfrm>
                  <a:off x="1483200" y="1656360"/>
                  <a:ext cx="10080" cy="163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Line 92"/>
                <p:cNvSpPr/>
                <p:nvPr/>
              </p:nvSpPr>
              <p:spPr>
                <a:xfrm>
                  <a:off x="1605600" y="1650600"/>
                  <a:ext cx="10080" cy="163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2" name="Group 93"/>
              <p:cNvGrpSpPr/>
              <p:nvPr/>
            </p:nvGrpSpPr>
            <p:grpSpPr>
              <a:xfrm>
                <a:off x="1863720" y="1648800"/>
                <a:ext cx="244440" cy="170640"/>
                <a:chOff x="1863720" y="1648800"/>
                <a:chExt cx="244440" cy="170640"/>
              </a:xfrm>
            </p:grpSpPr>
            <p:sp>
              <p:nvSpPr>
                <p:cNvPr id="683" name="Line 94"/>
                <p:cNvSpPr/>
                <p:nvPr/>
              </p:nvSpPr>
              <p:spPr>
                <a:xfrm>
                  <a:off x="1863720" y="1648800"/>
                  <a:ext cx="7920" cy="162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Line 95"/>
                <p:cNvSpPr/>
                <p:nvPr/>
              </p:nvSpPr>
              <p:spPr>
                <a:xfrm>
                  <a:off x="1977840" y="1656000"/>
                  <a:ext cx="7920" cy="163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Line 96"/>
                <p:cNvSpPr/>
                <p:nvPr/>
              </p:nvSpPr>
              <p:spPr>
                <a:xfrm>
                  <a:off x="2100240" y="1652040"/>
                  <a:ext cx="7920" cy="163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6" name="Group 97"/>
              <p:cNvGrpSpPr/>
              <p:nvPr/>
            </p:nvGrpSpPr>
            <p:grpSpPr>
              <a:xfrm>
                <a:off x="2358720" y="1646640"/>
                <a:ext cx="241560" cy="172800"/>
                <a:chOff x="2358720" y="1646640"/>
                <a:chExt cx="241560" cy="172800"/>
              </a:xfrm>
            </p:grpSpPr>
            <p:sp>
              <p:nvSpPr>
                <p:cNvPr id="687" name="Line 98"/>
                <p:cNvSpPr/>
                <p:nvPr/>
              </p:nvSpPr>
              <p:spPr>
                <a:xfrm>
                  <a:off x="2358720" y="1646640"/>
                  <a:ext cx="5400" cy="163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Line 99"/>
                <p:cNvSpPr/>
                <p:nvPr/>
              </p:nvSpPr>
              <p:spPr>
                <a:xfrm>
                  <a:off x="2472480" y="1656000"/>
                  <a:ext cx="5400" cy="163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00"/>
                <p:cNvSpPr/>
                <p:nvPr/>
              </p:nvSpPr>
              <p:spPr>
                <a:xfrm>
                  <a:off x="2595240" y="1653840"/>
                  <a:ext cx="5040" cy="163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0" name="Line 101"/>
              <p:cNvSpPr/>
              <p:nvPr/>
            </p:nvSpPr>
            <p:spPr>
              <a:xfrm>
                <a:off x="752400" y="1822320"/>
                <a:ext cx="2665440" cy="0"/>
              </a:xfrm>
              <a:prstGeom prst="line">
                <a:avLst/>
              </a:prstGeom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1" name="Group 102"/>
              <p:cNvGrpSpPr/>
              <p:nvPr/>
            </p:nvGrpSpPr>
            <p:grpSpPr>
              <a:xfrm>
                <a:off x="2852640" y="1646640"/>
                <a:ext cx="241560" cy="172800"/>
                <a:chOff x="2852640" y="1646640"/>
                <a:chExt cx="241560" cy="172800"/>
              </a:xfrm>
            </p:grpSpPr>
            <p:sp>
              <p:nvSpPr>
                <p:cNvPr id="692" name="Line 103"/>
                <p:cNvSpPr/>
                <p:nvPr/>
              </p:nvSpPr>
              <p:spPr>
                <a:xfrm>
                  <a:off x="2852640" y="1646640"/>
                  <a:ext cx="5400" cy="163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04"/>
                <p:cNvSpPr/>
                <p:nvPr/>
              </p:nvSpPr>
              <p:spPr>
                <a:xfrm>
                  <a:off x="2966400" y="1656000"/>
                  <a:ext cx="5400" cy="163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05"/>
                <p:cNvSpPr/>
                <p:nvPr/>
              </p:nvSpPr>
              <p:spPr>
                <a:xfrm>
                  <a:off x="3089160" y="1653840"/>
                  <a:ext cx="5040" cy="163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5" name="Group 106"/>
            <p:cNvGrpSpPr/>
            <p:nvPr/>
          </p:nvGrpSpPr>
          <p:grpSpPr>
            <a:xfrm>
              <a:off x="1165680" y="-120240"/>
              <a:ext cx="935640" cy="858240"/>
              <a:chOff x="1165680" y="-120240"/>
              <a:chExt cx="935640" cy="858240"/>
            </a:xfrm>
          </p:grpSpPr>
          <p:sp>
            <p:nvSpPr>
              <p:cNvPr id="696" name="Oval 107"/>
              <p:cNvSpPr/>
              <p:nvPr/>
            </p:nvSpPr>
            <p:spPr>
              <a:xfrm rot="1331400">
                <a:off x="1254240" y="0"/>
                <a:ext cx="758520" cy="6174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Text Box 108"/>
              <p:cNvSpPr/>
              <p:nvPr/>
            </p:nvSpPr>
            <p:spPr>
              <a:xfrm>
                <a:off x="1293840" y="144360"/>
                <a:ext cx="73800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M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8" name="Text Box 109"/>
            <p:cNvSpPr/>
            <p:nvPr/>
          </p:nvSpPr>
          <p:spPr>
            <a:xfrm>
              <a:off x="1600200" y="1081080"/>
              <a:ext cx="60804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A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110"/>
            <p:cNvSpPr/>
            <p:nvPr/>
          </p:nvSpPr>
          <p:spPr>
            <a:xfrm>
              <a:off x="828720" y="21096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0" name="Group 111"/>
            <p:cNvGrpSpPr/>
            <p:nvPr/>
          </p:nvGrpSpPr>
          <p:grpSpPr>
            <a:xfrm>
              <a:off x="1477800" y="449640"/>
              <a:ext cx="955080" cy="1139040"/>
              <a:chOff x="1477800" y="449640"/>
              <a:chExt cx="955080" cy="1139040"/>
            </a:xfrm>
          </p:grpSpPr>
          <p:grpSp>
            <p:nvGrpSpPr>
              <p:cNvPr id="701" name="Group 112"/>
              <p:cNvGrpSpPr/>
              <p:nvPr/>
            </p:nvGrpSpPr>
            <p:grpSpPr>
              <a:xfrm>
                <a:off x="1850400" y="1399320"/>
                <a:ext cx="247680" cy="189360"/>
                <a:chOff x="1850400" y="1399320"/>
                <a:chExt cx="247680" cy="189360"/>
              </a:xfrm>
            </p:grpSpPr>
            <p:sp>
              <p:nvSpPr>
                <p:cNvPr id="702" name="Line 113"/>
                <p:cNvSpPr/>
                <p:nvPr/>
              </p:nvSpPr>
              <p:spPr>
                <a:xfrm flipH="1">
                  <a:off x="1850400" y="1413360"/>
                  <a:ext cx="10440" cy="1753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Line 114"/>
                <p:cNvSpPr/>
                <p:nvPr/>
              </p:nvSpPr>
              <p:spPr>
                <a:xfrm flipH="1">
                  <a:off x="1964160" y="1413360"/>
                  <a:ext cx="10440" cy="1746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15"/>
                <p:cNvSpPr/>
                <p:nvPr/>
              </p:nvSpPr>
              <p:spPr>
                <a:xfrm flipH="1">
                  <a:off x="2087640" y="1399320"/>
                  <a:ext cx="10440" cy="1749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5" name="Freeform 116"/>
              <p:cNvSpPr/>
              <p:nvPr/>
            </p:nvSpPr>
            <p:spPr>
              <a:xfrm rot="3659400">
                <a:off x="1530720" y="660960"/>
                <a:ext cx="849240" cy="621000"/>
              </a:xfrm>
              <a:prstGeom prst="pie">
                <a:avLst/>
              </a:pr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Group 117"/>
            <p:cNvGrpSpPr/>
            <p:nvPr/>
          </p:nvGrpSpPr>
          <p:grpSpPr>
            <a:xfrm>
              <a:off x="2338560" y="1197000"/>
              <a:ext cx="304560" cy="1015920"/>
              <a:chOff x="2338560" y="1197000"/>
              <a:chExt cx="304560" cy="1015920"/>
            </a:xfrm>
          </p:grpSpPr>
          <p:sp>
            <p:nvSpPr>
              <p:cNvPr id="707" name="AutoShape 118"/>
              <p:cNvSpPr/>
              <p:nvPr/>
            </p:nvSpPr>
            <p:spPr>
              <a:xfrm>
                <a:off x="2338560" y="1197000"/>
                <a:ext cx="304560" cy="1015920"/>
              </a:xfrm>
              <a:custGeom>
                <a:avLst/>
                <a:gdLst>
                  <a:gd name="textAreaLeft" fmla="*/ 14760 w 304560"/>
                  <a:gd name="textAreaRight" fmla="*/ 289800 w 304560"/>
                  <a:gd name="textAreaTop" fmla="*/ 14760 h 1015920"/>
                  <a:gd name="textAreaBottom" fmla="*/ 1001160 h 1015920"/>
                </a:gdLst>
                <a:ahLst/>
                <a:rect l="textAreaLeft" t="textAreaTop" r="textAreaRight" b="textAreaBottom"/>
                <a:pathLst>
                  <a:path w="21600" h="71991">
                    <a:moveTo>
                      <a:pt x="3600" y="0"/>
                    </a:moveTo>
                    <a:arcTo wR="3600" hR="3600" stAng="16200000" swAng="-5400000"/>
                    <a:lnTo>
                      <a:pt x="0" y="68391"/>
                    </a:lnTo>
                    <a:arcTo wR="3600" hR="3600" stAng="10800000" swAng="-5400000"/>
                    <a:lnTo>
                      <a:pt x="18000" y="7199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Text Box 119"/>
              <p:cNvSpPr/>
              <p:nvPr/>
            </p:nvSpPr>
            <p:spPr>
              <a:xfrm>
                <a:off x="2338560" y="1997640"/>
                <a:ext cx="273960" cy="14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120"/>
            <p:cNvGrpSpPr/>
            <p:nvPr/>
          </p:nvGrpSpPr>
          <p:grpSpPr>
            <a:xfrm>
              <a:off x="1833480" y="1052640"/>
              <a:ext cx="457200" cy="1152360"/>
              <a:chOff x="1833480" y="1052640"/>
              <a:chExt cx="457200" cy="1152360"/>
            </a:xfrm>
          </p:grpSpPr>
          <p:sp>
            <p:nvSpPr>
              <p:cNvPr id="710" name="AutoShape 121"/>
              <p:cNvSpPr/>
              <p:nvPr/>
            </p:nvSpPr>
            <p:spPr>
              <a:xfrm>
                <a:off x="1848600" y="1052640"/>
                <a:ext cx="380880" cy="1152360"/>
              </a:xfrm>
              <a:custGeom>
                <a:avLst/>
                <a:gdLst>
                  <a:gd name="textAreaLeft" fmla="*/ 18360 w 380880"/>
                  <a:gd name="textAreaRight" fmla="*/ 362520 w 380880"/>
                  <a:gd name="textAreaTop" fmla="*/ 18360 h 1152360"/>
                  <a:gd name="textAreaBottom" fmla="*/ 1134000 h 1152360"/>
                </a:gdLst>
                <a:ahLst/>
                <a:rect l="textAreaLeft" t="textAreaTop" r="textAreaRight" b="textAreaBottom"/>
                <a:pathLst>
                  <a:path w="21600" h="65310">
                    <a:moveTo>
                      <a:pt x="3600" y="0"/>
                    </a:moveTo>
                    <a:arcTo wR="3600" hR="3600" stAng="16200000" swAng="-5400000"/>
                    <a:lnTo>
                      <a:pt x="0" y="61710"/>
                    </a:lnTo>
                    <a:arcTo wR="3600" hR="3600" stAng="10800000" swAng="-5400000"/>
                    <a:lnTo>
                      <a:pt x="18000" y="653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Text Box 122"/>
              <p:cNvSpPr/>
              <p:nvPr/>
            </p:nvSpPr>
            <p:spPr>
              <a:xfrm>
                <a:off x="1886760" y="1992240"/>
                <a:ext cx="343080" cy="19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Text Box 123"/>
              <p:cNvSpPr/>
              <p:nvPr/>
            </p:nvSpPr>
            <p:spPr>
              <a:xfrm>
                <a:off x="1833480" y="1847880"/>
                <a:ext cx="45720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Arc 124"/>
          <p:cNvSpPr/>
          <p:nvPr/>
        </p:nvSpPr>
        <p:spPr>
          <a:xfrm flipV="1">
            <a:off x="1258920" y="2133720"/>
            <a:ext cx="758880" cy="358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25"/>
          <p:cNvSpPr/>
          <p:nvPr/>
        </p:nvSpPr>
        <p:spPr>
          <a:xfrm>
            <a:off x="2987640" y="2205000"/>
            <a:ext cx="1441440" cy="5763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odón sigu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rc 126"/>
          <p:cNvSpPr/>
          <p:nvPr/>
        </p:nvSpPr>
        <p:spPr>
          <a:xfrm flipH="1" flipV="1">
            <a:off x="2483640" y="2205000"/>
            <a:ext cx="647640" cy="432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127"/>
          <p:cNvSpPr/>
          <p:nvPr/>
        </p:nvSpPr>
        <p:spPr>
          <a:xfrm>
            <a:off x="2050920" y="2565360"/>
            <a:ext cx="0" cy="16556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128"/>
          <p:cNvGrpSpPr/>
          <p:nvPr/>
        </p:nvGrpSpPr>
        <p:grpSpPr>
          <a:xfrm>
            <a:off x="1908000" y="3781440"/>
            <a:ext cx="1022040" cy="2303280"/>
            <a:chOff x="1908000" y="3781440"/>
            <a:chExt cx="1022040" cy="2303280"/>
          </a:xfrm>
        </p:grpSpPr>
        <p:grpSp>
          <p:nvGrpSpPr>
            <p:cNvPr id="718" name="Group 129"/>
            <p:cNvGrpSpPr/>
            <p:nvPr/>
          </p:nvGrpSpPr>
          <p:grpSpPr>
            <a:xfrm>
              <a:off x="1924920" y="4409640"/>
              <a:ext cx="1005120" cy="1675080"/>
              <a:chOff x="1924920" y="4409640"/>
              <a:chExt cx="1005120" cy="1675080"/>
            </a:xfrm>
          </p:grpSpPr>
          <p:sp>
            <p:nvSpPr>
              <p:cNvPr id="719" name="Rectangle 130"/>
              <p:cNvSpPr/>
              <p:nvPr/>
            </p:nvSpPr>
            <p:spPr>
              <a:xfrm>
                <a:off x="2053800" y="4409640"/>
                <a:ext cx="779400" cy="167508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0" name="Group 131"/>
              <p:cNvGrpSpPr/>
              <p:nvPr/>
            </p:nvGrpSpPr>
            <p:grpSpPr>
              <a:xfrm>
                <a:off x="1924920" y="4433400"/>
                <a:ext cx="1005120" cy="1602360"/>
                <a:chOff x="1924920" y="4433400"/>
                <a:chExt cx="1005120" cy="1602360"/>
              </a:xfrm>
            </p:grpSpPr>
            <p:sp>
              <p:nvSpPr>
                <p:cNvPr id="721" name="Text Box 132"/>
                <p:cNvSpPr/>
                <p:nvPr/>
              </p:nvSpPr>
              <p:spPr>
                <a:xfrm>
                  <a:off x="1986120" y="5718960"/>
                  <a:ext cx="943920" cy="31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nticod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AutoShape 133"/>
                <p:cNvSpPr/>
                <p:nvPr/>
              </p:nvSpPr>
              <p:spPr>
                <a:xfrm rot="5340000">
                  <a:off x="2369520" y="5434200"/>
                  <a:ext cx="130680" cy="368280"/>
                </a:xfrm>
                <a:custGeom>
                  <a:avLst/>
                  <a:gdLst>
                    <a:gd name="textAreaLeft" fmla="*/ 0 w 130680"/>
                    <a:gd name="textAreaRight" fmla="*/ 91800 w 130680"/>
                    <a:gd name="textAreaTop" fmla="*/ 23040 h 368280"/>
                    <a:gd name="textAreaBottom" fmla="*/ 345600 h 368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1350"/>
                        <a:pt x="21600" y="2700"/>
                      </a:cubicBezTo>
                      <a:lnTo>
                        <a:pt x="21600" y="18900"/>
                      </a:lnTo>
                      <a:cubicBezTo>
                        <a:pt x="21600" y="2025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3" name="Group 134"/>
                <p:cNvGrpSpPr/>
                <p:nvPr/>
              </p:nvGrpSpPr>
              <p:grpSpPr>
                <a:xfrm>
                  <a:off x="1924920" y="4433400"/>
                  <a:ext cx="965880" cy="1151280"/>
                  <a:chOff x="1924920" y="4433400"/>
                  <a:chExt cx="965880" cy="1151280"/>
                </a:xfrm>
              </p:grpSpPr>
              <p:grpSp>
                <p:nvGrpSpPr>
                  <p:cNvPr id="724" name="Group 135"/>
                  <p:cNvGrpSpPr/>
                  <p:nvPr/>
                </p:nvGrpSpPr>
                <p:grpSpPr>
                  <a:xfrm>
                    <a:off x="1924920" y="4433400"/>
                    <a:ext cx="965880" cy="1151280"/>
                    <a:chOff x="1924920" y="4433400"/>
                    <a:chExt cx="965880" cy="1151280"/>
                  </a:xfrm>
                </p:grpSpPr>
                <p:grpSp>
                  <p:nvGrpSpPr>
                    <p:cNvPr id="725" name="Group 136"/>
                    <p:cNvGrpSpPr/>
                    <p:nvPr/>
                  </p:nvGrpSpPr>
                  <p:grpSpPr>
                    <a:xfrm>
                      <a:off x="2311200" y="5397480"/>
                      <a:ext cx="249480" cy="187200"/>
                      <a:chOff x="2311200" y="5397480"/>
                      <a:chExt cx="249480" cy="187200"/>
                    </a:xfrm>
                  </p:grpSpPr>
                  <p:sp>
                    <p:nvSpPr>
                      <p:cNvPr id="726" name="Line 137"/>
                      <p:cNvSpPr/>
                      <p:nvPr/>
                    </p:nvSpPr>
                    <p:spPr>
                      <a:xfrm flipH="1">
                        <a:off x="2311200" y="5406480"/>
                        <a:ext cx="6840" cy="1764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7" name="Line 138"/>
                      <p:cNvSpPr/>
                      <p:nvPr/>
                    </p:nvSpPr>
                    <p:spPr>
                      <a:xfrm flipH="1">
                        <a:off x="2427480" y="5408640"/>
                        <a:ext cx="6840" cy="1760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8" name="Line 139"/>
                      <p:cNvSpPr/>
                      <p:nvPr/>
                    </p:nvSpPr>
                    <p:spPr>
                      <a:xfrm flipH="1">
                        <a:off x="2553840" y="5397480"/>
                        <a:ext cx="6840" cy="1760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29" name="Freeform 140"/>
                    <p:cNvSpPr/>
                    <p:nvPr/>
                  </p:nvSpPr>
                  <p:spPr>
                    <a:xfrm rot="3659400">
                      <a:off x="1966680" y="4660560"/>
                      <a:ext cx="882000" cy="615240"/>
                    </a:xfrm>
                    <a:prstGeom prst="pi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0" name="Text Box 141"/>
                  <p:cNvSpPr/>
                  <p:nvPr/>
                </p:nvSpPr>
                <p:spPr>
                  <a:xfrm>
                    <a:off x="2253240" y="5100480"/>
                    <a:ext cx="371160" cy="13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UA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31" name="Oval 142"/>
            <p:cNvSpPr/>
            <p:nvPr/>
          </p:nvSpPr>
          <p:spPr>
            <a:xfrm>
              <a:off x="1908000" y="3781440"/>
              <a:ext cx="960120" cy="69876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A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Oval 143"/>
          <p:cNvSpPr/>
          <p:nvPr/>
        </p:nvSpPr>
        <p:spPr>
          <a:xfrm>
            <a:off x="539640" y="3357720"/>
            <a:ext cx="300240" cy="328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44"/>
          <p:cNvSpPr/>
          <p:nvPr/>
        </p:nvSpPr>
        <p:spPr>
          <a:xfrm>
            <a:off x="826920" y="3429000"/>
            <a:ext cx="559080" cy="2174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DP + P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45"/>
          <p:cNvSpPr/>
          <p:nvPr/>
        </p:nvSpPr>
        <p:spPr>
          <a:xfrm>
            <a:off x="179280" y="5526000"/>
            <a:ext cx="1143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146"/>
          <p:cNvSpPr/>
          <p:nvPr/>
        </p:nvSpPr>
        <p:spPr>
          <a:xfrm>
            <a:off x="1332000" y="4835520"/>
            <a:ext cx="1371600" cy="90792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100000">
                <a:srgbClr val="ffffff">
                  <a:alpha val="47058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47"/>
          <p:cNvSpPr/>
          <p:nvPr/>
        </p:nvSpPr>
        <p:spPr>
          <a:xfrm>
            <a:off x="3348000" y="5445000"/>
            <a:ext cx="3049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148"/>
          <p:cNvSpPr/>
          <p:nvPr/>
        </p:nvSpPr>
        <p:spPr>
          <a:xfrm rot="21459600">
            <a:off x="1187280" y="5751000"/>
            <a:ext cx="1776600" cy="51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538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149"/>
          <p:cNvGrpSpPr/>
          <p:nvPr/>
        </p:nvGrpSpPr>
        <p:grpSpPr>
          <a:xfrm>
            <a:off x="684360" y="5581800"/>
            <a:ext cx="2665440" cy="175680"/>
            <a:chOff x="684360" y="5581800"/>
            <a:chExt cx="2665440" cy="175680"/>
          </a:xfrm>
        </p:grpSpPr>
        <p:grpSp>
          <p:nvGrpSpPr>
            <p:cNvPr id="739" name="Group 150"/>
            <p:cNvGrpSpPr/>
            <p:nvPr/>
          </p:nvGrpSpPr>
          <p:grpSpPr>
            <a:xfrm>
              <a:off x="808560" y="5584320"/>
              <a:ext cx="244800" cy="170280"/>
              <a:chOff x="808560" y="5584320"/>
              <a:chExt cx="244800" cy="170280"/>
            </a:xfrm>
          </p:grpSpPr>
          <p:sp>
            <p:nvSpPr>
              <p:cNvPr id="740" name="Line 151"/>
              <p:cNvSpPr/>
              <p:nvPr/>
            </p:nvSpPr>
            <p:spPr>
              <a:xfrm>
                <a:off x="808560" y="5584320"/>
                <a:ext cx="828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152"/>
              <p:cNvSpPr/>
              <p:nvPr/>
            </p:nvSpPr>
            <p:spPr>
              <a:xfrm>
                <a:off x="921960" y="5591520"/>
                <a:ext cx="900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153"/>
              <p:cNvSpPr/>
              <p:nvPr/>
            </p:nvSpPr>
            <p:spPr>
              <a:xfrm>
                <a:off x="1044720" y="5587200"/>
                <a:ext cx="864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" name="Group 154"/>
            <p:cNvGrpSpPr/>
            <p:nvPr/>
          </p:nvGrpSpPr>
          <p:grpSpPr>
            <a:xfrm>
              <a:off x="1301400" y="5585400"/>
              <a:ext cx="246240" cy="169200"/>
              <a:chOff x="1301400" y="5585400"/>
              <a:chExt cx="246240" cy="169200"/>
            </a:xfrm>
          </p:grpSpPr>
          <p:sp>
            <p:nvSpPr>
              <p:cNvPr id="744" name="Line 155"/>
              <p:cNvSpPr/>
              <p:nvPr/>
            </p:nvSpPr>
            <p:spPr>
              <a:xfrm>
                <a:off x="1301400" y="5585400"/>
                <a:ext cx="972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156"/>
              <p:cNvSpPr/>
              <p:nvPr/>
            </p:nvSpPr>
            <p:spPr>
              <a:xfrm>
                <a:off x="1414800" y="5591520"/>
                <a:ext cx="1044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157"/>
              <p:cNvSpPr/>
              <p:nvPr/>
            </p:nvSpPr>
            <p:spPr>
              <a:xfrm>
                <a:off x="1537560" y="5586120"/>
                <a:ext cx="1008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7" name="Group 158"/>
            <p:cNvGrpSpPr/>
            <p:nvPr/>
          </p:nvGrpSpPr>
          <p:grpSpPr>
            <a:xfrm>
              <a:off x="1795680" y="5583960"/>
              <a:ext cx="244440" cy="170640"/>
              <a:chOff x="1795680" y="5583960"/>
              <a:chExt cx="244440" cy="170640"/>
            </a:xfrm>
          </p:grpSpPr>
          <p:sp>
            <p:nvSpPr>
              <p:cNvPr id="748" name="Line 159"/>
              <p:cNvSpPr/>
              <p:nvPr/>
            </p:nvSpPr>
            <p:spPr>
              <a:xfrm>
                <a:off x="1795680" y="5583960"/>
                <a:ext cx="792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160"/>
              <p:cNvSpPr/>
              <p:nvPr/>
            </p:nvSpPr>
            <p:spPr>
              <a:xfrm>
                <a:off x="1909440" y="5591520"/>
                <a:ext cx="828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161"/>
              <p:cNvSpPr/>
              <p:nvPr/>
            </p:nvSpPr>
            <p:spPr>
              <a:xfrm>
                <a:off x="2031840" y="5587560"/>
                <a:ext cx="828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62"/>
            <p:cNvGrpSpPr/>
            <p:nvPr/>
          </p:nvGrpSpPr>
          <p:grpSpPr>
            <a:xfrm>
              <a:off x="2290680" y="5581800"/>
              <a:ext cx="241560" cy="172800"/>
              <a:chOff x="2290680" y="5581800"/>
              <a:chExt cx="241560" cy="172800"/>
            </a:xfrm>
          </p:grpSpPr>
          <p:sp>
            <p:nvSpPr>
              <p:cNvPr id="752" name="Line 163"/>
              <p:cNvSpPr/>
              <p:nvPr/>
            </p:nvSpPr>
            <p:spPr>
              <a:xfrm>
                <a:off x="2290680" y="5581800"/>
                <a:ext cx="540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164"/>
              <p:cNvSpPr/>
              <p:nvPr/>
            </p:nvSpPr>
            <p:spPr>
              <a:xfrm>
                <a:off x="2404080" y="5591520"/>
                <a:ext cx="576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165"/>
              <p:cNvSpPr/>
              <p:nvPr/>
            </p:nvSpPr>
            <p:spPr>
              <a:xfrm>
                <a:off x="2526840" y="5589360"/>
                <a:ext cx="540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Line 166"/>
            <p:cNvSpPr/>
            <p:nvPr/>
          </p:nvSpPr>
          <p:spPr>
            <a:xfrm>
              <a:off x="684360" y="5757480"/>
              <a:ext cx="2665440" cy="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Group 167"/>
            <p:cNvGrpSpPr/>
            <p:nvPr/>
          </p:nvGrpSpPr>
          <p:grpSpPr>
            <a:xfrm>
              <a:off x="2784600" y="5581800"/>
              <a:ext cx="241560" cy="172800"/>
              <a:chOff x="2784600" y="5581800"/>
              <a:chExt cx="241560" cy="172800"/>
            </a:xfrm>
          </p:grpSpPr>
          <p:sp>
            <p:nvSpPr>
              <p:cNvPr id="757" name="Line 168"/>
              <p:cNvSpPr/>
              <p:nvPr/>
            </p:nvSpPr>
            <p:spPr>
              <a:xfrm>
                <a:off x="2784600" y="5581800"/>
                <a:ext cx="540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169"/>
              <p:cNvSpPr/>
              <p:nvPr/>
            </p:nvSpPr>
            <p:spPr>
              <a:xfrm>
                <a:off x="2898000" y="5591520"/>
                <a:ext cx="576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170"/>
              <p:cNvSpPr/>
              <p:nvPr/>
            </p:nvSpPr>
            <p:spPr>
              <a:xfrm>
                <a:off x="3020760" y="5589360"/>
                <a:ext cx="540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0" name="Group 171"/>
          <p:cNvGrpSpPr/>
          <p:nvPr/>
        </p:nvGrpSpPr>
        <p:grpSpPr>
          <a:xfrm>
            <a:off x="1098720" y="3799440"/>
            <a:ext cx="935640" cy="858240"/>
            <a:chOff x="1098720" y="3799440"/>
            <a:chExt cx="935640" cy="858240"/>
          </a:xfrm>
        </p:grpSpPr>
        <p:sp>
          <p:nvSpPr>
            <p:cNvPr id="761" name="Oval 172"/>
            <p:cNvSpPr/>
            <p:nvPr/>
          </p:nvSpPr>
          <p:spPr>
            <a:xfrm rot="1331400">
              <a:off x="1187280" y="3919680"/>
              <a:ext cx="758520" cy="6174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173"/>
            <p:cNvSpPr/>
            <p:nvPr/>
          </p:nvSpPr>
          <p:spPr>
            <a:xfrm>
              <a:off x="1226880" y="4064040"/>
              <a:ext cx="73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Text Box 174"/>
          <p:cNvSpPr/>
          <p:nvPr/>
        </p:nvSpPr>
        <p:spPr>
          <a:xfrm>
            <a:off x="1531800" y="4978440"/>
            <a:ext cx="608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75"/>
          <p:cNvSpPr/>
          <p:nvPr/>
        </p:nvSpPr>
        <p:spPr>
          <a:xfrm>
            <a:off x="760320" y="4062240"/>
            <a:ext cx="554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Group 176"/>
          <p:cNvGrpSpPr/>
          <p:nvPr/>
        </p:nvGrpSpPr>
        <p:grpSpPr>
          <a:xfrm>
            <a:off x="1409760" y="4346640"/>
            <a:ext cx="955080" cy="1139040"/>
            <a:chOff x="1409760" y="4346640"/>
            <a:chExt cx="955080" cy="1139040"/>
          </a:xfrm>
        </p:grpSpPr>
        <p:grpSp>
          <p:nvGrpSpPr>
            <p:cNvPr id="766" name="Group 177"/>
            <p:cNvGrpSpPr/>
            <p:nvPr/>
          </p:nvGrpSpPr>
          <p:grpSpPr>
            <a:xfrm>
              <a:off x="1782000" y="5296320"/>
              <a:ext cx="248040" cy="189360"/>
              <a:chOff x="1782000" y="5296320"/>
              <a:chExt cx="248040" cy="189360"/>
            </a:xfrm>
          </p:grpSpPr>
          <p:sp>
            <p:nvSpPr>
              <p:cNvPr id="767" name="Line 178"/>
              <p:cNvSpPr/>
              <p:nvPr/>
            </p:nvSpPr>
            <p:spPr>
              <a:xfrm flipH="1">
                <a:off x="1782000" y="5310720"/>
                <a:ext cx="10800" cy="1749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179"/>
              <p:cNvSpPr/>
              <p:nvPr/>
            </p:nvSpPr>
            <p:spPr>
              <a:xfrm flipH="1">
                <a:off x="1895760" y="5310360"/>
                <a:ext cx="10440" cy="1746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180"/>
              <p:cNvSpPr/>
              <p:nvPr/>
            </p:nvSpPr>
            <p:spPr>
              <a:xfrm flipH="1">
                <a:off x="2019600" y="5296320"/>
                <a:ext cx="10440" cy="1749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" name="Freeform 181"/>
            <p:cNvSpPr/>
            <p:nvPr/>
          </p:nvSpPr>
          <p:spPr>
            <a:xfrm rot="3659400">
              <a:off x="1462680" y="4557960"/>
              <a:ext cx="849240" cy="621000"/>
            </a:xfrm>
            <a:prstGeom prst="pie">
              <a:avLst/>
            </a:pr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182"/>
          <p:cNvGrpSpPr/>
          <p:nvPr/>
        </p:nvGrpSpPr>
        <p:grpSpPr>
          <a:xfrm>
            <a:off x="2268360" y="5114880"/>
            <a:ext cx="304920" cy="1015920"/>
            <a:chOff x="2268360" y="5114880"/>
            <a:chExt cx="304920" cy="1015920"/>
          </a:xfrm>
        </p:grpSpPr>
        <p:sp>
          <p:nvSpPr>
            <p:cNvPr id="772" name="AutoShape 183"/>
            <p:cNvSpPr/>
            <p:nvPr/>
          </p:nvSpPr>
          <p:spPr>
            <a:xfrm>
              <a:off x="2268360" y="5114880"/>
              <a:ext cx="304920" cy="101592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1015920"/>
                <a:gd name="textAreaBottom" fmla="*/ 1001160 h 1015920"/>
              </a:gdLst>
              <a:ahLst/>
              <a:rect l="textAreaLeft" t="textAreaTop" r="textAreaRight" b="textAreaBottom"/>
              <a:pathLst>
                <a:path w="21600" h="71907">
                  <a:moveTo>
                    <a:pt x="3600" y="0"/>
                  </a:moveTo>
                  <a:arcTo wR="3600" hR="3600" stAng="16200000" swAng="-5400000"/>
                  <a:lnTo>
                    <a:pt x="0" y="68307"/>
                  </a:lnTo>
                  <a:arcTo wR="3600" hR="3600" stAng="10800000" swAng="-5400000"/>
                  <a:lnTo>
                    <a:pt x="18000" y="719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84"/>
            <p:cNvSpPr/>
            <p:nvPr/>
          </p:nvSpPr>
          <p:spPr>
            <a:xfrm>
              <a:off x="2268360" y="5915520"/>
              <a:ext cx="274320" cy="1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Group 185"/>
          <p:cNvGrpSpPr/>
          <p:nvPr/>
        </p:nvGrpSpPr>
        <p:grpSpPr>
          <a:xfrm>
            <a:off x="1763640" y="5014800"/>
            <a:ext cx="457200" cy="1152720"/>
            <a:chOff x="1763640" y="5014800"/>
            <a:chExt cx="457200" cy="1152720"/>
          </a:xfrm>
        </p:grpSpPr>
        <p:sp>
          <p:nvSpPr>
            <p:cNvPr id="775" name="AutoShape 186"/>
            <p:cNvSpPr/>
            <p:nvPr/>
          </p:nvSpPr>
          <p:spPr>
            <a:xfrm>
              <a:off x="1778760" y="5014800"/>
              <a:ext cx="380880" cy="115272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1152720"/>
                <a:gd name="textAreaBottom" fmla="*/ 1134360 h 1152720"/>
              </a:gdLst>
              <a:ahLst/>
              <a:rect l="textAreaLeft" t="textAreaTop" r="textAreaRight" b="textAreaBottom"/>
              <a:pathLst>
                <a:path w="21600" h="65330">
                  <a:moveTo>
                    <a:pt x="3600" y="0"/>
                  </a:moveTo>
                  <a:arcTo wR="3600" hR="3600" stAng="16200000" swAng="-5400000"/>
                  <a:lnTo>
                    <a:pt x="0" y="61730"/>
                  </a:lnTo>
                  <a:arcTo wR="3600" hR="3600" stAng="10800000" swAng="-5400000"/>
                  <a:lnTo>
                    <a:pt x="18000" y="653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 Box 187"/>
            <p:cNvSpPr/>
            <p:nvPr/>
          </p:nvSpPr>
          <p:spPr>
            <a:xfrm>
              <a:off x="1816920" y="5954760"/>
              <a:ext cx="343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188"/>
            <p:cNvSpPr/>
            <p:nvPr/>
          </p:nvSpPr>
          <p:spPr>
            <a:xfrm>
              <a:off x="1763640" y="5810040"/>
              <a:ext cx="45720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189"/>
          <p:cNvGrpSpPr/>
          <p:nvPr/>
        </p:nvGrpSpPr>
        <p:grpSpPr>
          <a:xfrm>
            <a:off x="3348000" y="3068640"/>
            <a:ext cx="1150920" cy="2303280"/>
            <a:chOff x="3348000" y="3068640"/>
            <a:chExt cx="1150920" cy="2303280"/>
          </a:xfrm>
        </p:grpSpPr>
        <p:grpSp>
          <p:nvGrpSpPr>
            <p:cNvPr id="779" name="Group 190"/>
            <p:cNvGrpSpPr/>
            <p:nvPr/>
          </p:nvGrpSpPr>
          <p:grpSpPr>
            <a:xfrm>
              <a:off x="3348000" y="3068640"/>
              <a:ext cx="1022040" cy="2303280"/>
              <a:chOff x="3348000" y="3068640"/>
              <a:chExt cx="1022040" cy="2303280"/>
            </a:xfrm>
          </p:grpSpPr>
          <p:grpSp>
            <p:nvGrpSpPr>
              <p:cNvPr id="780" name="Group 191"/>
              <p:cNvGrpSpPr/>
              <p:nvPr/>
            </p:nvGrpSpPr>
            <p:grpSpPr>
              <a:xfrm>
                <a:off x="3364920" y="3696840"/>
                <a:ext cx="1005120" cy="1675080"/>
                <a:chOff x="3364920" y="3696840"/>
                <a:chExt cx="1005120" cy="1675080"/>
              </a:xfrm>
            </p:grpSpPr>
            <p:sp>
              <p:nvSpPr>
                <p:cNvPr id="781" name="Rectangle 192"/>
                <p:cNvSpPr/>
                <p:nvPr/>
              </p:nvSpPr>
              <p:spPr>
                <a:xfrm>
                  <a:off x="3493800" y="3696840"/>
                  <a:ext cx="779400" cy="1675080"/>
                </a:xfrm>
                <a:prstGeom prst="rect">
                  <a:avLst/>
                </a:prstGeom>
                <a:solidFill>
                  <a:srgbClr val="99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2" name="Group 193"/>
                <p:cNvGrpSpPr/>
                <p:nvPr/>
              </p:nvGrpSpPr>
              <p:grpSpPr>
                <a:xfrm>
                  <a:off x="3364920" y="3720600"/>
                  <a:ext cx="1005120" cy="1602360"/>
                  <a:chOff x="3364920" y="3720600"/>
                  <a:chExt cx="1005120" cy="1602360"/>
                </a:xfrm>
              </p:grpSpPr>
              <p:sp>
                <p:nvSpPr>
                  <p:cNvPr id="783" name="Text Box 194"/>
                  <p:cNvSpPr/>
                  <p:nvPr/>
                </p:nvSpPr>
                <p:spPr>
                  <a:xfrm>
                    <a:off x="3426120" y="5006160"/>
                    <a:ext cx="943920" cy="31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nticodó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AutoShape 195"/>
                  <p:cNvSpPr/>
                  <p:nvPr/>
                </p:nvSpPr>
                <p:spPr>
                  <a:xfrm rot="5340000">
                    <a:off x="3809520" y="4721400"/>
                    <a:ext cx="130680" cy="368280"/>
                  </a:xfrm>
                  <a:custGeom>
                    <a:avLst/>
                    <a:gdLst>
                      <a:gd name="textAreaLeft" fmla="*/ 0 w 130680"/>
                      <a:gd name="textAreaRight" fmla="*/ 91800 w 130680"/>
                      <a:gd name="textAreaTop" fmla="*/ 23040 h 368280"/>
                      <a:gd name="textAreaBottom" fmla="*/ 345600 h 368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10800" y="0"/>
                          <a:pt x="21600" y="1350"/>
                          <a:pt x="21600" y="2700"/>
                        </a:cubicBezTo>
                        <a:lnTo>
                          <a:pt x="21600" y="18900"/>
                        </a:lnTo>
                        <a:cubicBezTo>
                          <a:pt x="21600" y="20250"/>
                          <a:pt x="10800" y="21600"/>
                          <a:pt x="0" y="216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85" name="Group 196"/>
                  <p:cNvGrpSpPr/>
                  <p:nvPr/>
                </p:nvGrpSpPr>
                <p:grpSpPr>
                  <a:xfrm>
                    <a:off x="3364920" y="3720600"/>
                    <a:ext cx="965880" cy="1151280"/>
                    <a:chOff x="3364920" y="3720600"/>
                    <a:chExt cx="965880" cy="1151280"/>
                  </a:xfrm>
                </p:grpSpPr>
                <p:grpSp>
                  <p:nvGrpSpPr>
                    <p:cNvPr id="786" name="Group 197"/>
                    <p:cNvGrpSpPr/>
                    <p:nvPr/>
                  </p:nvGrpSpPr>
                  <p:grpSpPr>
                    <a:xfrm>
                      <a:off x="3364920" y="3720600"/>
                      <a:ext cx="965880" cy="1151280"/>
                      <a:chOff x="3364920" y="3720600"/>
                      <a:chExt cx="965880" cy="1151280"/>
                    </a:xfrm>
                  </p:grpSpPr>
                  <p:grpSp>
                    <p:nvGrpSpPr>
                      <p:cNvPr id="787" name="Group 198"/>
                      <p:cNvGrpSpPr/>
                      <p:nvPr/>
                    </p:nvGrpSpPr>
                    <p:grpSpPr>
                      <a:xfrm>
                        <a:off x="3751200" y="4684680"/>
                        <a:ext cx="249480" cy="187200"/>
                        <a:chOff x="3751200" y="4684680"/>
                        <a:chExt cx="249480" cy="187200"/>
                      </a:xfrm>
                    </p:grpSpPr>
                    <p:sp>
                      <p:nvSpPr>
                        <p:cNvPr id="788" name="Line 199"/>
                        <p:cNvSpPr/>
                        <p:nvPr/>
                      </p:nvSpPr>
                      <p:spPr>
                        <a:xfrm flipH="1">
                          <a:off x="3751200" y="4693680"/>
                          <a:ext cx="6840" cy="1764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9" name="Line 200"/>
                        <p:cNvSpPr/>
                        <p:nvPr/>
                      </p:nvSpPr>
                      <p:spPr>
                        <a:xfrm flipH="1">
                          <a:off x="3867480" y="4695840"/>
                          <a:ext cx="6840" cy="17604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0" name="Line 201"/>
                        <p:cNvSpPr/>
                        <p:nvPr/>
                      </p:nvSpPr>
                      <p:spPr>
                        <a:xfrm flipH="1">
                          <a:off x="3993840" y="4684680"/>
                          <a:ext cx="6840" cy="17604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91" name="Freeform 202"/>
                      <p:cNvSpPr/>
                      <p:nvPr/>
                    </p:nvSpPr>
                    <p:spPr>
                      <a:xfrm rot="3659400">
                        <a:off x="3406680" y="3947760"/>
                        <a:ext cx="882000" cy="615240"/>
                      </a:xfrm>
                      <a:prstGeom prst="pie">
                        <a:avLst/>
                      </a:prstGeom>
                      <a:noFill/>
                      <a:ln w="507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92" name="Text Box 203"/>
                    <p:cNvSpPr/>
                    <p:nvPr/>
                  </p:nvSpPr>
                  <p:spPr>
                    <a:xfrm>
                      <a:off x="3693240" y="4387680"/>
                      <a:ext cx="371160" cy="13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93" name="Oval 204"/>
              <p:cNvSpPr/>
              <p:nvPr/>
            </p:nvSpPr>
            <p:spPr>
              <a:xfrm>
                <a:off x="3348000" y="3068640"/>
                <a:ext cx="960120" cy="69912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2000" spc="-1" strike="noStrike">
                    <a:solidFill>
                      <a:srgbClr val="000000"/>
                    </a:solidFill>
                    <a:latin typeface="Arial"/>
                  </a:rPr>
                  <a:t>AA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" name="Group 205"/>
            <p:cNvGrpSpPr/>
            <p:nvPr/>
          </p:nvGrpSpPr>
          <p:grpSpPr>
            <a:xfrm>
              <a:off x="3923640" y="4046040"/>
              <a:ext cx="575280" cy="329400"/>
              <a:chOff x="3923640" y="4046040"/>
              <a:chExt cx="575280" cy="329400"/>
            </a:xfrm>
          </p:grpSpPr>
          <p:sp>
            <p:nvSpPr>
              <p:cNvPr id="795" name="Oval 206"/>
              <p:cNvSpPr/>
              <p:nvPr/>
            </p:nvSpPr>
            <p:spPr>
              <a:xfrm>
                <a:off x="3923640" y="4046040"/>
                <a:ext cx="300240" cy="329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Text Box 207"/>
              <p:cNvSpPr/>
              <p:nvPr/>
            </p:nvSpPr>
            <p:spPr>
              <a:xfrm>
                <a:off x="4228200" y="4115160"/>
                <a:ext cx="270720" cy="147600"/>
              </a:xfrm>
              <a:prstGeom prst="rect">
                <a:avLst/>
              </a:prstGeom>
              <a:noFill/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GTP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7" name="Group 208"/>
          <p:cNvGrpSpPr/>
          <p:nvPr/>
        </p:nvGrpSpPr>
        <p:grpSpPr>
          <a:xfrm>
            <a:off x="7093080" y="3789360"/>
            <a:ext cx="1022040" cy="2303280"/>
            <a:chOff x="7093080" y="3789360"/>
            <a:chExt cx="1022040" cy="2303280"/>
          </a:xfrm>
        </p:grpSpPr>
        <p:grpSp>
          <p:nvGrpSpPr>
            <p:cNvPr id="798" name="Group 209"/>
            <p:cNvGrpSpPr/>
            <p:nvPr/>
          </p:nvGrpSpPr>
          <p:grpSpPr>
            <a:xfrm>
              <a:off x="7110000" y="4417560"/>
              <a:ext cx="1005120" cy="1675080"/>
              <a:chOff x="7110000" y="4417560"/>
              <a:chExt cx="1005120" cy="1675080"/>
            </a:xfrm>
          </p:grpSpPr>
          <p:sp>
            <p:nvSpPr>
              <p:cNvPr id="799" name="Rectangle 210"/>
              <p:cNvSpPr/>
              <p:nvPr/>
            </p:nvSpPr>
            <p:spPr>
              <a:xfrm>
                <a:off x="7238880" y="4417560"/>
                <a:ext cx="779400" cy="167508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0" name="Group 211"/>
              <p:cNvGrpSpPr/>
              <p:nvPr/>
            </p:nvGrpSpPr>
            <p:grpSpPr>
              <a:xfrm>
                <a:off x="7110000" y="4441320"/>
                <a:ext cx="1005120" cy="1602360"/>
                <a:chOff x="7110000" y="4441320"/>
                <a:chExt cx="1005120" cy="1602360"/>
              </a:xfrm>
            </p:grpSpPr>
            <p:sp>
              <p:nvSpPr>
                <p:cNvPr id="801" name="Text Box 212"/>
                <p:cNvSpPr/>
                <p:nvPr/>
              </p:nvSpPr>
              <p:spPr>
                <a:xfrm>
                  <a:off x="7171200" y="5726880"/>
                  <a:ext cx="943920" cy="31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nticod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AutoShape 213"/>
                <p:cNvSpPr/>
                <p:nvPr/>
              </p:nvSpPr>
              <p:spPr>
                <a:xfrm rot="5340000">
                  <a:off x="7554600" y="5442120"/>
                  <a:ext cx="130680" cy="368280"/>
                </a:xfrm>
                <a:custGeom>
                  <a:avLst/>
                  <a:gdLst>
                    <a:gd name="textAreaLeft" fmla="*/ 0 w 130680"/>
                    <a:gd name="textAreaRight" fmla="*/ 91800 w 130680"/>
                    <a:gd name="textAreaTop" fmla="*/ 23040 h 368280"/>
                    <a:gd name="textAreaBottom" fmla="*/ 345600 h 368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1350"/>
                        <a:pt x="21600" y="2700"/>
                      </a:cubicBezTo>
                      <a:lnTo>
                        <a:pt x="21600" y="18900"/>
                      </a:lnTo>
                      <a:cubicBezTo>
                        <a:pt x="21600" y="2025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3" name="Group 214"/>
                <p:cNvGrpSpPr/>
                <p:nvPr/>
              </p:nvGrpSpPr>
              <p:grpSpPr>
                <a:xfrm>
                  <a:off x="7110000" y="4441320"/>
                  <a:ext cx="965880" cy="1151280"/>
                  <a:chOff x="7110000" y="4441320"/>
                  <a:chExt cx="965880" cy="1151280"/>
                </a:xfrm>
              </p:grpSpPr>
              <p:grpSp>
                <p:nvGrpSpPr>
                  <p:cNvPr id="804" name="Group 215"/>
                  <p:cNvGrpSpPr/>
                  <p:nvPr/>
                </p:nvGrpSpPr>
                <p:grpSpPr>
                  <a:xfrm>
                    <a:off x="7110000" y="4441320"/>
                    <a:ext cx="965880" cy="1151280"/>
                    <a:chOff x="7110000" y="4441320"/>
                    <a:chExt cx="965880" cy="1151280"/>
                  </a:xfrm>
                </p:grpSpPr>
                <p:grpSp>
                  <p:nvGrpSpPr>
                    <p:cNvPr id="805" name="Group 216"/>
                    <p:cNvGrpSpPr/>
                    <p:nvPr/>
                  </p:nvGrpSpPr>
                  <p:grpSpPr>
                    <a:xfrm>
                      <a:off x="7496280" y="5405400"/>
                      <a:ext cx="249480" cy="187200"/>
                      <a:chOff x="7496280" y="5405400"/>
                      <a:chExt cx="249480" cy="187200"/>
                    </a:xfrm>
                  </p:grpSpPr>
                  <p:sp>
                    <p:nvSpPr>
                      <p:cNvPr id="806" name="Line 217"/>
                      <p:cNvSpPr/>
                      <p:nvPr/>
                    </p:nvSpPr>
                    <p:spPr>
                      <a:xfrm flipH="1">
                        <a:off x="7496280" y="5414400"/>
                        <a:ext cx="6840" cy="1764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7" name="Line 218"/>
                      <p:cNvSpPr/>
                      <p:nvPr/>
                    </p:nvSpPr>
                    <p:spPr>
                      <a:xfrm flipH="1">
                        <a:off x="7612560" y="5416560"/>
                        <a:ext cx="6840" cy="1760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8" name="Line 219"/>
                      <p:cNvSpPr/>
                      <p:nvPr/>
                    </p:nvSpPr>
                    <p:spPr>
                      <a:xfrm flipH="1">
                        <a:off x="7738920" y="5405400"/>
                        <a:ext cx="6840" cy="1760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09" name="Freeform 220"/>
                    <p:cNvSpPr/>
                    <p:nvPr/>
                  </p:nvSpPr>
                  <p:spPr>
                    <a:xfrm rot="3659400">
                      <a:off x="7151760" y="4668480"/>
                      <a:ext cx="882000" cy="615240"/>
                    </a:xfrm>
                    <a:prstGeom prst="pi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0" name="Text Box 221"/>
                  <p:cNvSpPr/>
                  <p:nvPr/>
                </p:nvSpPr>
                <p:spPr>
                  <a:xfrm>
                    <a:off x="7438320" y="5108400"/>
                    <a:ext cx="371160" cy="13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UA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11" name="Oval 222"/>
            <p:cNvSpPr/>
            <p:nvPr/>
          </p:nvSpPr>
          <p:spPr>
            <a:xfrm>
              <a:off x="7093080" y="3789360"/>
              <a:ext cx="960120" cy="699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A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Oval 223"/>
          <p:cNvSpPr/>
          <p:nvPr/>
        </p:nvSpPr>
        <p:spPr>
          <a:xfrm>
            <a:off x="6499080" y="4843440"/>
            <a:ext cx="1371600" cy="90792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100000">
                <a:srgbClr val="ffffff">
                  <a:alpha val="47058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24"/>
          <p:cNvSpPr/>
          <p:nvPr/>
        </p:nvSpPr>
        <p:spPr>
          <a:xfrm>
            <a:off x="8515440" y="5452920"/>
            <a:ext cx="30456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225"/>
          <p:cNvSpPr/>
          <p:nvPr/>
        </p:nvSpPr>
        <p:spPr>
          <a:xfrm rot="21459600">
            <a:off x="6354720" y="5758920"/>
            <a:ext cx="1776600" cy="51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538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Group 226"/>
          <p:cNvGrpSpPr/>
          <p:nvPr/>
        </p:nvGrpSpPr>
        <p:grpSpPr>
          <a:xfrm>
            <a:off x="5851440" y="5589720"/>
            <a:ext cx="2665440" cy="175680"/>
            <a:chOff x="5851440" y="5589720"/>
            <a:chExt cx="2665440" cy="175680"/>
          </a:xfrm>
        </p:grpSpPr>
        <p:grpSp>
          <p:nvGrpSpPr>
            <p:cNvPr id="816" name="Group 227"/>
            <p:cNvGrpSpPr/>
            <p:nvPr/>
          </p:nvGrpSpPr>
          <p:grpSpPr>
            <a:xfrm>
              <a:off x="5975640" y="5592240"/>
              <a:ext cx="244800" cy="170280"/>
              <a:chOff x="5975640" y="5592240"/>
              <a:chExt cx="244800" cy="170280"/>
            </a:xfrm>
          </p:grpSpPr>
          <p:sp>
            <p:nvSpPr>
              <p:cNvPr id="817" name="Line 228"/>
              <p:cNvSpPr/>
              <p:nvPr/>
            </p:nvSpPr>
            <p:spPr>
              <a:xfrm>
                <a:off x="5975640" y="5592240"/>
                <a:ext cx="828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Line 229"/>
              <p:cNvSpPr/>
              <p:nvPr/>
            </p:nvSpPr>
            <p:spPr>
              <a:xfrm>
                <a:off x="6089040" y="5599440"/>
                <a:ext cx="900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Line 230"/>
              <p:cNvSpPr/>
              <p:nvPr/>
            </p:nvSpPr>
            <p:spPr>
              <a:xfrm>
                <a:off x="6211800" y="5595120"/>
                <a:ext cx="864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Group 231"/>
            <p:cNvGrpSpPr/>
            <p:nvPr/>
          </p:nvGrpSpPr>
          <p:grpSpPr>
            <a:xfrm>
              <a:off x="6468480" y="5593320"/>
              <a:ext cx="246240" cy="169200"/>
              <a:chOff x="6468480" y="5593320"/>
              <a:chExt cx="246240" cy="169200"/>
            </a:xfrm>
          </p:grpSpPr>
          <p:sp>
            <p:nvSpPr>
              <p:cNvPr id="821" name="Line 232"/>
              <p:cNvSpPr/>
              <p:nvPr/>
            </p:nvSpPr>
            <p:spPr>
              <a:xfrm>
                <a:off x="6468480" y="5593320"/>
                <a:ext cx="972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233"/>
              <p:cNvSpPr/>
              <p:nvPr/>
            </p:nvSpPr>
            <p:spPr>
              <a:xfrm>
                <a:off x="6581880" y="5599440"/>
                <a:ext cx="1044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234"/>
              <p:cNvSpPr/>
              <p:nvPr/>
            </p:nvSpPr>
            <p:spPr>
              <a:xfrm>
                <a:off x="6704640" y="5594040"/>
                <a:ext cx="1008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Group 235"/>
            <p:cNvGrpSpPr/>
            <p:nvPr/>
          </p:nvGrpSpPr>
          <p:grpSpPr>
            <a:xfrm>
              <a:off x="6962760" y="5591880"/>
              <a:ext cx="244440" cy="170640"/>
              <a:chOff x="6962760" y="5591880"/>
              <a:chExt cx="244440" cy="170640"/>
            </a:xfrm>
          </p:grpSpPr>
          <p:sp>
            <p:nvSpPr>
              <p:cNvPr id="825" name="Line 236"/>
              <p:cNvSpPr/>
              <p:nvPr/>
            </p:nvSpPr>
            <p:spPr>
              <a:xfrm>
                <a:off x="6962760" y="5591880"/>
                <a:ext cx="792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237"/>
              <p:cNvSpPr/>
              <p:nvPr/>
            </p:nvSpPr>
            <p:spPr>
              <a:xfrm>
                <a:off x="7076520" y="5599440"/>
                <a:ext cx="828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Line 238"/>
              <p:cNvSpPr/>
              <p:nvPr/>
            </p:nvSpPr>
            <p:spPr>
              <a:xfrm>
                <a:off x="7198920" y="5595480"/>
                <a:ext cx="828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239"/>
            <p:cNvGrpSpPr/>
            <p:nvPr/>
          </p:nvGrpSpPr>
          <p:grpSpPr>
            <a:xfrm>
              <a:off x="7457760" y="5589720"/>
              <a:ext cx="241560" cy="172800"/>
              <a:chOff x="7457760" y="5589720"/>
              <a:chExt cx="241560" cy="172800"/>
            </a:xfrm>
          </p:grpSpPr>
          <p:sp>
            <p:nvSpPr>
              <p:cNvPr id="829" name="Line 240"/>
              <p:cNvSpPr/>
              <p:nvPr/>
            </p:nvSpPr>
            <p:spPr>
              <a:xfrm>
                <a:off x="7457760" y="5589720"/>
                <a:ext cx="540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Line 241"/>
              <p:cNvSpPr/>
              <p:nvPr/>
            </p:nvSpPr>
            <p:spPr>
              <a:xfrm>
                <a:off x="7571160" y="5599440"/>
                <a:ext cx="576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242"/>
              <p:cNvSpPr/>
              <p:nvPr/>
            </p:nvSpPr>
            <p:spPr>
              <a:xfrm>
                <a:off x="7693920" y="5597280"/>
                <a:ext cx="540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2" name="Line 243"/>
            <p:cNvSpPr/>
            <p:nvPr/>
          </p:nvSpPr>
          <p:spPr>
            <a:xfrm>
              <a:off x="5851440" y="5765400"/>
              <a:ext cx="2665440" cy="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3" name="Group 244"/>
            <p:cNvGrpSpPr/>
            <p:nvPr/>
          </p:nvGrpSpPr>
          <p:grpSpPr>
            <a:xfrm>
              <a:off x="7951680" y="5589720"/>
              <a:ext cx="241560" cy="172800"/>
              <a:chOff x="7951680" y="5589720"/>
              <a:chExt cx="241560" cy="172800"/>
            </a:xfrm>
          </p:grpSpPr>
          <p:sp>
            <p:nvSpPr>
              <p:cNvPr id="834" name="Line 245"/>
              <p:cNvSpPr/>
              <p:nvPr/>
            </p:nvSpPr>
            <p:spPr>
              <a:xfrm>
                <a:off x="7951680" y="5589720"/>
                <a:ext cx="540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Line 246"/>
              <p:cNvSpPr/>
              <p:nvPr/>
            </p:nvSpPr>
            <p:spPr>
              <a:xfrm>
                <a:off x="8065080" y="5599440"/>
                <a:ext cx="576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247"/>
              <p:cNvSpPr/>
              <p:nvPr/>
            </p:nvSpPr>
            <p:spPr>
              <a:xfrm>
                <a:off x="8187840" y="5597280"/>
                <a:ext cx="540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7" name="Group 248"/>
          <p:cNvGrpSpPr/>
          <p:nvPr/>
        </p:nvGrpSpPr>
        <p:grpSpPr>
          <a:xfrm>
            <a:off x="6297840" y="3524760"/>
            <a:ext cx="935640" cy="858240"/>
            <a:chOff x="6297840" y="3524760"/>
            <a:chExt cx="935640" cy="858240"/>
          </a:xfrm>
        </p:grpSpPr>
        <p:sp>
          <p:nvSpPr>
            <p:cNvPr id="838" name="Oval 249"/>
            <p:cNvSpPr/>
            <p:nvPr/>
          </p:nvSpPr>
          <p:spPr>
            <a:xfrm rot="1331400">
              <a:off x="6386400" y="3645000"/>
              <a:ext cx="758520" cy="6174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Text Box 250"/>
            <p:cNvSpPr/>
            <p:nvPr/>
          </p:nvSpPr>
          <p:spPr>
            <a:xfrm>
              <a:off x="6426000" y="3789360"/>
              <a:ext cx="73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Text Box 251"/>
          <p:cNvSpPr/>
          <p:nvPr/>
        </p:nvSpPr>
        <p:spPr>
          <a:xfrm>
            <a:off x="5959440" y="3645000"/>
            <a:ext cx="554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Group 252"/>
          <p:cNvGrpSpPr/>
          <p:nvPr/>
        </p:nvGrpSpPr>
        <p:grpSpPr>
          <a:xfrm>
            <a:off x="6577200" y="4354560"/>
            <a:ext cx="955080" cy="1139040"/>
            <a:chOff x="6577200" y="4354560"/>
            <a:chExt cx="955080" cy="1139040"/>
          </a:xfrm>
        </p:grpSpPr>
        <p:grpSp>
          <p:nvGrpSpPr>
            <p:cNvPr id="842" name="Group 253"/>
            <p:cNvGrpSpPr/>
            <p:nvPr/>
          </p:nvGrpSpPr>
          <p:grpSpPr>
            <a:xfrm>
              <a:off x="6949440" y="5304240"/>
              <a:ext cx="248040" cy="189360"/>
              <a:chOff x="6949440" y="5304240"/>
              <a:chExt cx="248040" cy="189360"/>
            </a:xfrm>
          </p:grpSpPr>
          <p:sp>
            <p:nvSpPr>
              <p:cNvPr id="843" name="Line 254"/>
              <p:cNvSpPr/>
              <p:nvPr/>
            </p:nvSpPr>
            <p:spPr>
              <a:xfrm flipH="1">
                <a:off x="6949440" y="5318640"/>
                <a:ext cx="10800" cy="1749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Line 255"/>
              <p:cNvSpPr/>
              <p:nvPr/>
            </p:nvSpPr>
            <p:spPr>
              <a:xfrm flipH="1">
                <a:off x="7063200" y="5318280"/>
                <a:ext cx="10440" cy="1746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Line 256"/>
              <p:cNvSpPr/>
              <p:nvPr/>
            </p:nvSpPr>
            <p:spPr>
              <a:xfrm flipH="1">
                <a:off x="7187040" y="5304240"/>
                <a:ext cx="10440" cy="1749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6" name="Freeform 257"/>
            <p:cNvSpPr/>
            <p:nvPr/>
          </p:nvSpPr>
          <p:spPr>
            <a:xfrm rot="3659400">
              <a:off x="6630120" y="4565880"/>
              <a:ext cx="849240" cy="621000"/>
            </a:xfrm>
            <a:prstGeom prst="pie">
              <a:avLst/>
            </a:pr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Group 258"/>
          <p:cNvGrpSpPr/>
          <p:nvPr/>
        </p:nvGrpSpPr>
        <p:grpSpPr>
          <a:xfrm>
            <a:off x="7435800" y="5122800"/>
            <a:ext cx="304920" cy="1015920"/>
            <a:chOff x="7435800" y="5122800"/>
            <a:chExt cx="304920" cy="1015920"/>
          </a:xfrm>
        </p:grpSpPr>
        <p:sp>
          <p:nvSpPr>
            <p:cNvPr id="848" name="AutoShape 259"/>
            <p:cNvSpPr/>
            <p:nvPr/>
          </p:nvSpPr>
          <p:spPr>
            <a:xfrm>
              <a:off x="7435800" y="5122800"/>
              <a:ext cx="304920" cy="101592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1015920"/>
                <a:gd name="textAreaBottom" fmla="*/ 1001160 h 1015920"/>
              </a:gdLst>
              <a:ahLst/>
              <a:rect l="textAreaLeft" t="textAreaTop" r="textAreaRight" b="textAreaBottom"/>
              <a:pathLst>
                <a:path w="21600" h="71907">
                  <a:moveTo>
                    <a:pt x="3600" y="0"/>
                  </a:moveTo>
                  <a:arcTo wR="3600" hR="3600" stAng="16200000" swAng="-5400000"/>
                  <a:lnTo>
                    <a:pt x="0" y="68307"/>
                  </a:lnTo>
                  <a:arcTo wR="3600" hR="3600" stAng="10800000" swAng="-5400000"/>
                  <a:lnTo>
                    <a:pt x="18000" y="719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Text Box 260"/>
            <p:cNvSpPr/>
            <p:nvPr/>
          </p:nvSpPr>
          <p:spPr>
            <a:xfrm>
              <a:off x="7435800" y="5923440"/>
              <a:ext cx="274320" cy="1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Group 261"/>
          <p:cNvGrpSpPr/>
          <p:nvPr/>
        </p:nvGrpSpPr>
        <p:grpSpPr>
          <a:xfrm>
            <a:off x="6931080" y="5022720"/>
            <a:ext cx="457200" cy="1152720"/>
            <a:chOff x="6931080" y="5022720"/>
            <a:chExt cx="457200" cy="1152720"/>
          </a:xfrm>
        </p:grpSpPr>
        <p:sp>
          <p:nvSpPr>
            <p:cNvPr id="851" name="AutoShape 262"/>
            <p:cNvSpPr/>
            <p:nvPr/>
          </p:nvSpPr>
          <p:spPr>
            <a:xfrm>
              <a:off x="6946200" y="5022720"/>
              <a:ext cx="380880" cy="115272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1152720"/>
                <a:gd name="textAreaBottom" fmla="*/ 1134360 h 1152720"/>
              </a:gdLst>
              <a:ahLst/>
              <a:rect l="textAreaLeft" t="textAreaTop" r="textAreaRight" b="textAreaBottom"/>
              <a:pathLst>
                <a:path w="21600" h="65330">
                  <a:moveTo>
                    <a:pt x="3600" y="0"/>
                  </a:moveTo>
                  <a:arcTo wR="3600" hR="3600" stAng="16200000" swAng="-5400000"/>
                  <a:lnTo>
                    <a:pt x="0" y="61730"/>
                  </a:lnTo>
                  <a:arcTo wR="3600" hR="3600" stAng="10800000" swAng="-5400000"/>
                  <a:lnTo>
                    <a:pt x="18000" y="653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Text Box 263"/>
            <p:cNvSpPr/>
            <p:nvPr/>
          </p:nvSpPr>
          <p:spPr>
            <a:xfrm>
              <a:off x="6984360" y="5962680"/>
              <a:ext cx="343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Text Box 264"/>
            <p:cNvSpPr/>
            <p:nvPr/>
          </p:nvSpPr>
          <p:spPr>
            <a:xfrm>
              <a:off x="6931080" y="5817960"/>
              <a:ext cx="45720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Text Box 265"/>
          <p:cNvSpPr/>
          <p:nvPr/>
        </p:nvSpPr>
        <p:spPr>
          <a:xfrm>
            <a:off x="5364000" y="6381720"/>
            <a:ext cx="352908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Formación de Unión peptí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66"/>
          <p:cNvSpPr/>
          <p:nvPr/>
        </p:nvSpPr>
        <p:spPr>
          <a:xfrm>
            <a:off x="4284720" y="6021360"/>
            <a:ext cx="1295280" cy="28908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riboz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Picture 2" descr="figure 3-14"/>
          <p:cNvPicPr/>
          <p:nvPr/>
        </p:nvPicPr>
        <p:blipFill>
          <a:blip r:embed="rId1"/>
          <a:stretch/>
        </p:blipFill>
        <p:spPr>
          <a:xfrm>
            <a:off x="304920" y="736560"/>
            <a:ext cx="853128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sposición del ADN en los cromoso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upo 14"/>
          <p:cNvGrpSpPr/>
          <p:nvPr/>
        </p:nvGrpSpPr>
        <p:grpSpPr>
          <a:xfrm>
            <a:off x="4689360" y="1519200"/>
            <a:ext cx="4190760" cy="4631040"/>
            <a:chOff x="4689360" y="1519200"/>
            <a:chExt cx="4190760" cy="4631040"/>
          </a:xfrm>
        </p:grpSpPr>
        <p:pic>
          <p:nvPicPr>
            <p:cNvPr id="66" name="Imagen 5" descr=""/>
            <p:cNvPicPr/>
            <p:nvPr/>
          </p:nvPicPr>
          <p:blipFill>
            <a:blip r:embed="rId1"/>
            <a:srcRect l="16444" t="0" r="18154" b="0"/>
            <a:stretch/>
          </p:blipFill>
          <p:spPr>
            <a:xfrm>
              <a:off x="4840200" y="1519200"/>
              <a:ext cx="388908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Cuadro de texto 7"/>
            <p:cNvSpPr/>
            <p:nvPr/>
          </p:nvSpPr>
          <p:spPr>
            <a:xfrm>
              <a:off x="5057640" y="1697040"/>
              <a:ext cx="137628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ragmento de ADN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n doble héli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Cuadro de texto 8"/>
            <p:cNvSpPr/>
            <p:nvPr/>
          </p:nvSpPr>
          <p:spPr>
            <a:xfrm>
              <a:off x="5033880" y="2190600"/>
              <a:ext cx="144144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romatina enrrollada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obre histon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Cuadro de texto 9"/>
            <p:cNvSpPr/>
            <p:nvPr/>
          </p:nvSpPr>
          <p:spPr>
            <a:xfrm>
              <a:off x="5057640" y="2743200"/>
              <a:ext cx="1296720" cy="50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romatina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mpaquetada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n nucleosom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Cuadro de texto 10"/>
            <p:cNvSpPr/>
            <p:nvPr/>
          </p:nvSpPr>
          <p:spPr>
            <a:xfrm>
              <a:off x="5057640" y="3390840"/>
              <a:ext cx="1296720" cy="50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ragmento de cromosoma extendi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Cuadro de texto 11"/>
            <p:cNvSpPr/>
            <p:nvPr/>
          </p:nvSpPr>
          <p:spPr>
            <a:xfrm>
              <a:off x="5057640" y="4111560"/>
              <a:ext cx="1296720" cy="50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ragmento de cromosoma condens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Cuadro de texto 12"/>
            <p:cNvSpPr/>
            <p:nvPr/>
          </p:nvSpPr>
          <p:spPr>
            <a:xfrm>
              <a:off x="4986000" y="4879800"/>
              <a:ext cx="136836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romosom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Cuadro de texto 13"/>
            <p:cNvSpPr/>
            <p:nvPr/>
          </p:nvSpPr>
          <p:spPr>
            <a:xfrm>
              <a:off x="4689360" y="5297400"/>
              <a:ext cx="4190760" cy="85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da molécula de ADN se encuentra empaquetada en los cromosomas en una longitud 10.000 veces menor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upo 17"/>
          <p:cNvGrpSpPr/>
          <p:nvPr/>
        </p:nvGrpSpPr>
        <p:grpSpPr>
          <a:xfrm>
            <a:off x="324000" y="1268280"/>
            <a:ext cx="4133520" cy="4824720"/>
            <a:chOff x="324000" y="1268280"/>
            <a:chExt cx="4133520" cy="4824720"/>
          </a:xfrm>
        </p:grpSpPr>
        <p:pic>
          <p:nvPicPr>
            <p:cNvPr id="75" name="Imagen 6" descr=""/>
            <p:cNvPicPr/>
            <p:nvPr/>
          </p:nvPicPr>
          <p:blipFill>
            <a:blip r:embed="rId2"/>
            <a:stretch/>
          </p:blipFill>
          <p:spPr>
            <a:xfrm>
              <a:off x="324000" y="1268280"/>
              <a:ext cx="4133520" cy="48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Autoforma 15"/>
            <p:cNvSpPr/>
            <p:nvPr/>
          </p:nvSpPr>
          <p:spPr>
            <a:xfrm rot="7630200">
              <a:off x="1468080" y="5027400"/>
              <a:ext cx="73080" cy="720720"/>
            </a:xfrm>
            <a:custGeom>
              <a:avLst/>
              <a:gdLst>
                <a:gd name="textAreaLeft" fmla="*/ 0 w 73080"/>
                <a:gd name="textAreaRight" fmla="*/ 51480 w 730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0"/>
                    <a:pt x="21600" y="0"/>
                  </a:cubicBezTo>
                  <a:lnTo>
                    <a:pt x="21600" y="21600"/>
                  </a:lnTo>
                  <a:cubicBezTo>
                    <a:pt x="21600" y="216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Cuadro de texto 16"/>
            <p:cNvSpPr/>
            <p:nvPr/>
          </p:nvSpPr>
          <p:spPr>
            <a:xfrm rot="2299800">
              <a:off x="1072080" y="5300280"/>
              <a:ext cx="57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G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419720"/>
          </a:xfrm>
          <a:prstGeom prst="rect">
            <a:avLst/>
          </a:prstGeom>
          <a:solidFill>
            <a:srgbClr val="c0e6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alibri"/>
              </a:rPr>
              <a:t>Desformilación (eliminación de grupo formil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alibri"/>
              </a:rPr>
              <a:t>Glicosidación (adición de cadenas de oligosacáridos a las proteínas por acción de las glucosil transferasas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alibri"/>
              </a:rPr>
              <a:t>Formación de puentes disulfuros -S-S- (entre grupos –SH de cisteínas dentro de la misma cadena o de cadenas diferentes por acción de </a:t>
            </a:r>
            <a:r>
              <a:rPr b="1" i="1" lang="en-US" sz="2400" spc="-1" strike="noStrike">
                <a:solidFill>
                  <a:srgbClr val="333300"/>
                </a:solidFill>
                <a:latin typeface="Calibri"/>
              </a:rPr>
              <a:t>proteín-disulfuro isomerasa</a:t>
            </a:r>
            <a:r>
              <a:rPr b="1" lang="en-US" sz="2400" spc="-1" strike="noStrike">
                <a:solidFill>
                  <a:srgbClr val="3333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alibri"/>
              </a:rPr>
              <a:t>Fosforilación, Acetilación, Metilación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0632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dificaciones post-traduccionales de las proteín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9360">
            <a:solidFill>
              <a:srgbClr val="43808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LIMENTOS TRANGEN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Rectangle 5"/>
          <p:cNvSpPr/>
          <p:nvPr/>
        </p:nvSpPr>
        <p:spPr>
          <a:xfrm>
            <a:off x="380880" y="1828800"/>
            <a:ext cx="8229600" cy="1143000"/>
          </a:xfrm>
          <a:prstGeom prst="rect">
            <a:avLst/>
          </a:prstGeom>
          <a:gradFill rotWithShape="0">
            <a:gsLst>
              <a:gs pos="0">
                <a:srgbClr val="596a66"/>
              </a:gs>
              <a:gs pos="50000">
                <a:srgbClr val="c0e6dd"/>
              </a:gs>
              <a:gs pos="100000">
                <a:srgbClr val="596a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o sólo se requieren más alimentos, sino también mejore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6"/>
          <p:cNvSpPr/>
          <p:nvPr/>
        </p:nvSpPr>
        <p:spPr>
          <a:xfrm>
            <a:off x="2971800" y="3962520"/>
            <a:ext cx="304812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écnica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NA recombin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7"/>
          <p:cNvSpPr/>
          <p:nvPr/>
        </p:nvSpPr>
        <p:spPr>
          <a:xfrm>
            <a:off x="457200" y="3581280"/>
            <a:ext cx="1905120" cy="121932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GENIERÍ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N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8"/>
          <p:cNvSpPr/>
          <p:nvPr/>
        </p:nvSpPr>
        <p:spPr>
          <a:xfrm>
            <a:off x="6629400" y="4267080"/>
            <a:ext cx="1752480" cy="398880"/>
          </a:xfrm>
          <a:prstGeom prst="rect">
            <a:avLst/>
          </a:prstGeom>
          <a:noFill/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RANS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9"/>
          <p:cNvSpPr/>
          <p:nvPr/>
        </p:nvSpPr>
        <p:spPr>
          <a:xfrm>
            <a:off x="7391520" y="495288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0"/>
          <p:cNvSpPr/>
          <p:nvPr/>
        </p:nvSpPr>
        <p:spPr>
          <a:xfrm>
            <a:off x="4876920" y="594360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en extraño presente en el DNA de un organ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0668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os OGMs son parte de la solu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5533920"/>
          </a:xfrm>
          <a:prstGeom prst="rect">
            <a:avLst/>
          </a:prstGeom>
          <a:solidFill>
            <a:srgbClr val="c0e6d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umentar la producción de alimen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Introducir resistencia a pestes y enfermeda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Introducir tolerancia a temperaturas y sequí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Expandir la producción a suelos margin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umentar la calidad nutri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Compensar deficiencias en vitaminas y micronutrie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Eliminar compuestos tóxicos: cianuros, glicoalcaloide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Disminuir la degradación del medio ambi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Introducir caracteres genéticos que requieran baja o mejor utilización de insumos    quím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 Promover aplicaciones en biorremedi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9360">
            <a:solidFill>
              <a:srgbClr val="43808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Organismos Genéticamente Modificados (OG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e6d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Un OGM es u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n organism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(vegetal, animal, microorganismo o virus) en el cual se ha introducido información genética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precisa y definid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en forma deliberad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y dirigida a obtener un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determinado fenoti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 introducción de dicha información genética no podría haber sido adquirida por ese organismo por si mis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000000"/>
                </a:solidFill>
                <a:uFillTx/>
                <a:latin typeface="Calibri"/>
              </a:rPr>
              <a:t>Tolerancia a herbicid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Calibri"/>
              </a:rPr>
              <a:t>Esta modalidad engloba a la mayor parte de las plantas transgénicas actu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Calibri"/>
              </a:rPr>
              <a:t>Ejemplos: maíz, eucalipto, soja, caña de azúc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Calibri"/>
              </a:rPr>
              <a:t>Un ejemplo cotidiano es la Soja Roundup Rea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30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3000"/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3000"/>
                                        <p:tgtEl>
                                          <p:spTgt spid="8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Calibri"/>
              </a:rPr>
              <a:t>Obtención de nuevos productos y alteración de la calidad nutri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La empresa Calgene produjo aceites ricos en ácido esteár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Se alteró la composición en hidratos de carbono con vistas a la producción de tubérculos de papa, aumento del contenido de almidón y reducción de amil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En el año 2000 se informó la obtención de arroz genéticamente modificado que produce beta- carotenos, precursor de la vitamina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30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3000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3000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n 2" descr="&#13;F24-07.GIF011                                                  00006B4B_x0013_Sumanas' Hard Drive            B4EBCDA7:"/>
          <p:cNvPicPr/>
          <p:nvPr/>
        </p:nvPicPr>
        <p:blipFill>
          <a:blip r:embed="rId1"/>
          <a:stretch/>
        </p:blipFill>
        <p:spPr>
          <a:xfrm>
            <a:off x="685800" y="762120"/>
            <a:ext cx="3048120" cy="5435640"/>
          </a:xfrm>
          <a:prstGeom prst="rect">
            <a:avLst/>
          </a:prstGeom>
          <a:ln w="0">
            <a:noFill/>
          </a:ln>
        </p:spPr>
      </p:pic>
      <p:pic>
        <p:nvPicPr>
          <p:cNvPr id="79" name="Imagen 2" descr=""/>
          <p:cNvPicPr/>
          <p:nvPr/>
        </p:nvPicPr>
        <p:blipFill>
          <a:blip r:embed="rId2"/>
          <a:stretch/>
        </p:blipFill>
        <p:spPr>
          <a:xfrm>
            <a:off x="4800600" y="609480"/>
            <a:ext cx="40608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9360">
            <a:solidFill>
              <a:srgbClr val="43808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XPRESION DE UN 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5"/>
          <p:cNvSpPr/>
          <p:nvPr/>
        </p:nvSpPr>
        <p:spPr>
          <a:xfrm>
            <a:off x="533520" y="2743200"/>
            <a:ext cx="1295280" cy="129528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 flipV="1">
            <a:off x="1905120" y="251460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7"/>
          <p:cNvSpPr/>
          <p:nvPr/>
        </p:nvSpPr>
        <p:spPr>
          <a:xfrm>
            <a:off x="1905120" y="3657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>
            <a:off x="1828800" y="3962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>
            <a:off x="1523880" y="4114800"/>
            <a:ext cx="60984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3429000" y="2133720"/>
            <a:ext cx="4267080" cy="459720"/>
          </a:xfrm>
          <a:prstGeom prst="rect">
            <a:avLst/>
          </a:prstGeom>
          <a:noFill/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TESIS DE PROTE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2666880" y="5486400"/>
            <a:ext cx="6019920" cy="459720"/>
          </a:xfrm>
          <a:prstGeom prst="rect">
            <a:avLst/>
          </a:prstGeom>
          <a:noFill/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GULACION DE LA TRANSCRIP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3200400" y="4572000"/>
            <a:ext cx="5715000" cy="459720"/>
          </a:xfrm>
          <a:prstGeom prst="rect">
            <a:avLst/>
          </a:prstGeom>
          <a:noFill/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TESIS DE ARN TRANSFER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3429000" y="3581280"/>
            <a:ext cx="4800600" cy="459720"/>
          </a:xfrm>
          <a:prstGeom prst="rect">
            <a:avLst/>
          </a:prstGeom>
          <a:noFill/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TESIS DE ARN RIBOSO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8440"/>
            <a:ext cx="8151840" cy="111456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9360">
            <a:solidFill>
              <a:srgbClr val="43808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ÁCIDOS NUCLEICOS: 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STRUCTURA MOLECULAR DE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D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Group 266"/>
          <p:cNvGrpSpPr/>
          <p:nvPr/>
        </p:nvGrpSpPr>
        <p:grpSpPr>
          <a:xfrm>
            <a:off x="6019920" y="3657600"/>
            <a:ext cx="2022480" cy="2971800"/>
            <a:chOff x="6019920" y="3657600"/>
            <a:chExt cx="2022480" cy="2971800"/>
          </a:xfrm>
        </p:grpSpPr>
        <p:sp>
          <p:nvSpPr>
            <p:cNvPr id="92" name="Cuadro de texto 12"/>
            <p:cNvSpPr/>
            <p:nvPr/>
          </p:nvSpPr>
          <p:spPr>
            <a:xfrm>
              <a:off x="6836040" y="6308640"/>
              <a:ext cx="268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Cuadro de texto 13"/>
            <p:cNvSpPr/>
            <p:nvPr/>
          </p:nvSpPr>
          <p:spPr>
            <a:xfrm>
              <a:off x="7239240" y="6308640"/>
              <a:ext cx="2700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265"/>
            <p:cNvGrpSpPr/>
            <p:nvPr/>
          </p:nvGrpSpPr>
          <p:grpSpPr>
            <a:xfrm>
              <a:off x="6019920" y="3657600"/>
              <a:ext cx="2022480" cy="2933640"/>
              <a:chOff x="6019920" y="3657600"/>
              <a:chExt cx="2022480" cy="2933640"/>
            </a:xfrm>
          </p:grpSpPr>
          <p:pic>
            <p:nvPicPr>
              <p:cNvPr id="95" name="Imagen 14" descr="semiconserv"/>
              <p:cNvPicPr/>
              <p:nvPr/>
            </p:nvPicPr>
            <p:blipFill>
              <a:blip r:embed="rId1">
                <a:grayscl/>
              </a:blip>
              <a:srcRect l="73163" t="-1952" r="0" b="50988"/>
              <a:stretch/>
            </p:blipFill>
            <p:spPr>
              <a:xfrm>
                <a:off x="6019920" y="3744720"/>
                <a:ext cx="2022480" cy="256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Línea 16"/>
              <p:cNvSpPr/>
              <p:nvPr/>
            </p:nvSpPr>
            <p:spPr>
              <a:xfrm>
                <a:off x="6694560" y="4065480"/>
                <a:ext cx="26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ínea 17"/>
              <p:cNvSpPr/>
              <p:nvPr/>
            </p:nvSpPr>
            <p:spPr>
              <a:xfrm>
                <a:off x="6962760" y="4225680"/>
                <a:ext cx="27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ínea 18"/>
              <p:cNvSpPr/>
              <p:nvPr/>
            </p:nvSpPr>
            <p:spPr>
              <a:xfrm>
                <a:off x="6962760" y="4546440"/>
                <a:ext cx="27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ínea 19"/>
              <p:cNvSpPr/>
              <p:nvPr/>
            </p:nvSpPr>
            <p:spPr>
              <a:xfrm>
                <a:off x="6829560" y="4705200"/>
                <a:ext cx="268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ínea 20"/>
              <p:cNvSpPr/>
              <p:nvPr/>
            </p:nvSpPr>
            <p:spPr>
              <a:xfrm>
                <a:off x="6694560" y="5027400"/>
                <a:ext cx="26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ínea 21"/>
              <p:cNvSpPr/>
              <p:nvPr/>
            </p:nvSpPr>
            <p:spPr>
              <a:xfrm>
                <a:off x="6962760" y="5186160"/>
                <a:ext cx="27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ínea 22"/>
              <p:cNvSpPr/>
              <p:nvPr/>
            </p:nvSpPr>
            <p:spPr>
              <a:xfrm>
                <a:off x="6962760" y="5506920"/>
                <a:ext cx="270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ínea 23"/>
              <p:cNvSpPr/>
              <p:nvPr/>
            </p:nvSpPr>
            <p:spPr>
              <a:xfrm>
                <a:off x="6694560" y="5667120"/>
                <a:ext cx="26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ínea 24"/>
              <p:cNvSpPr/>
              <p:nvPr/>
            </p:nvSpPr>
            <p:spPr>
              <a:xfrm>
                <a:off x="6829560" y="6060960"/>
                <a:ext cx="268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Cuadro de texto 25"/>
              <p:cNvSpPr/>
              <p:nvPr/>
            </p:nvSpPr>
            <p:spPr>
              <a:xfrm>
                <a:off x="6962760" y="3657600"/>
                <a:ext cx="2700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Cuadro de texto 26"/>
              <p:cNvSpPr/>
              <p:nvPr/>
            </p:nvSpPr>
            <p:spPr>
              <a:xfrm>
                <a:off x="6559560" y="3657600"/>
                <a:ext cx="2700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Cuadro de texto 29"/>
              <p:cNvSpPr/>
              <p:nvPr/>
            </p:nvSpPr>
            <p:spPr>
              <a:xfrm>
                <a:off x="6105600" y="636264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Cuadro de texto 265"/>
          <p:cNvSpPr/>
          <p:nvPr/>
        </p:nvSpPr>
        <p:spPr>
          <a:xfrm>
            <a:off x="731880" y="1319040"/>
            <a:ext cx="60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953.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Watson, Crick y Wilkins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uadro de texto 266"/>
          <p:cNvSpPr/>
          <p:nvPr/>
        </p:nvSpPr>
        <p:spPr>
          <a:xfrm>
            <a:off x="380880" y="2133720"/>
            <a:ext cx="8305920" cy="1800360"/>
          </a:xfrm>
          <a:prstGeom prst="rect">
            <a:avLst/>
          </a:prstGeom>
          <a:noFill/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élice con giro a la derec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denas complementarias y  antiparale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oxinucleótidos de A, T, G, y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-C 50% más fuerte que A-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Imagen 269" descr=""/>
          <p:cNvPicPr/>
          <p:nvPr/>
        </p:nvPicPr>
        <p:blipFill>
          <a:blip r:embed="rId2"/>
          <a:stretch/>
        </p:blipFill>
        <p:spPr>
          <a:xfrm>
            <a:off x="7238880" y="1219320"/>
            <a:ext cx="1584360" cy="849240"/>
          </a:xfrm>
          <a:prstGeom prst="rect">
            <a:avLst/>
          </a:prstGeom>
          <a:ln w="0">
            <a:noFill/>
          </a:ln>
        </p:spPr>
      </p:pic>
      <p:sp>
        <p:nvSpPr>
          <p:cNvPr id="111" name="1 Rectángulo"/>
          <p:cNvSpPr/>
          <p:nvPr/>
        </p:nvSpPr>
        <p:spPr>
          <a:xfrm>
            <a:off x="380880" y="457200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l Código genético esta d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or la secuencia de las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3a5f56"/>
              </a:gs>
              <a:gs pos="50000">
                <a:srgbClr val="7dcdba"/>
              </a:gs>
              <a:gs pos="100000">
                <a:srgbClr val="3a5f5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UNIONES ENTRE DESOXINUCLEOTIDOS EN EL AD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Grupo 32"/>
          <p:cNvGrpSpPr/>
          <p:nvPr/>
        </p:nvGrpSpPr>
        <p:grpSpPr>
          <a:xfrm>
            <a:off x="2514600" y="1447920"/>
            <a:ext cx="4952520" cy="4952880"/>
            <a:chOff x="2514600" y="1447920"/>
            <a:chExt cx="4952520" cy="4952880"/>
          </a:xfrm>
        </p:grpSpPr>
        <p:sp>
          <p:nvSpPr>
            <p:cNvPr id="114" name="Cuadro de texto 33"/>
            <p:cNvSpPr/>
            <p:nvPr/>
          </p:nvSpPr>
          <p:spPr>
            <a:xfrm>
              <a:off x="4371840" y="4199400"/>
              <a:ext cx="1444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Uniones Puente Hidrógen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upo 34"/>
            <p:cNvGrpSpPr/>
            <p:nvPr/>
          </p:nvGrpSpPr>
          <p:grpSpPr>
            <a:xfrm>
              <a:off x="2514600" y="1447920"/>
              <a:ext cx="4952520" cy="4952880"/>
              <a:chOff x="2514600" y="1447920"/>
              <a:chExt cx="4952520" cy="4952880"/>
            </a:xfrm>
          </p:grpSpPr>
          <p:sp>
            <p:nvSpPr>
              <p:cNvPr id="116" name="Cuadro de texto 35"/>
              <p:cNvSpPr/>
              <p:nvPr/>
            </p:nvSpPr>
            <p:spPr>
              <a:xfrm>
                <a:off x="2617560" y="1447920"/>
                <a:ext cx="1238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Arial"/>
                  </a:rPr>
                  <a:t>Esquele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Arial"/>
                  </a:rPr>
                  <a:t>Azúcar-Fosfat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Cuadro de texto 36"/>
              <p:cNvSpPr/>
              <p:nvPr/>
            </p:nvSpPr>
            <p:spPr>
              <a:xfrm>
                <a:off x="5300640" y="1447920"/>
                <a:ext cx="1238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Arial"/>
                  </a:rPr>
                  <a:t>Esquele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Arial"/>
                  </a:rPr>
                  <a:t>Azúcar-Fosfat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Cuadro de texto 37"/>
              <p:cNvSpPr/>
              <p:nvPr/>
            </p:nvSpPr>
            <p:spPr>
              <a:xfrm>
                <a:off x="4062240" y="1585440"/>
                <a:ext cx="1135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Arial"/>
                  </a:rPr>
                  <a:t>Pares de Bas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ínea 38"/>
              <p:cNvSpPr/>
              <p:nvPr/>
            </p:nvSpPr>
            <p:spPr>
              <a:xfrm>
                <a:off x="3340080" y="1722960"/>
                <a:ext cx="0" cy="27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ínea 39"/>
              <p:cNvSpPr/>
              <p:nvPr/>
            </p:nvSpPr>
            <p:spPr>
              <a:xfrm>
                <a:off x="4268520" y="1722960"/>
                <a:ext cx="0" cy="27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ínea 40"/>
              <p:cNvSpPr/>
              <p:nvPr/>
            </p:nvSpPr>
            <p:spPr>
              <a:xfrm>
                <a:off x="4887720" y="1722960"/>
                <a:ext cx="0" cy="27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ínea 41"/>
              <p:cNvSpPr/>
              <p:nvPr/>
            </p:nvSpPr>
            <p:spPr>
              <a:xfrm>
                <a:off x="5713200" y="1722960"/>
                <a:ext cx="0" cy="27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Cuadro de texto 42"/>
              <p:cNvSpPr/>
              <p:nvPr/>
            </p:nvSpPr>
            <p:spPr>
              <a:xfrm>
                <a:off x="6229080" y="1860480"/>
                <a:ext cx="309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Cuadro de texto 43"/>
              <p:cNvSpPr/>
              <p:nvPr/>
            </p:nvSpPr>
            <p:spPr>
              <a:xfrm>
                <a:off x="2514600" y="1998000"/>
                <a:ext cx="309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Cuadro de texto 44"/>
              <p:cNvSpPr/>
              <p:nvPr/>
            </p:nvSpPr>
            <p:spPr>
              <a:xfrm>
                <a:off x="7157880" y="5988240"/>
                <a:ext cx="309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Cuadro de texto 45"/>
              <p:cNvSpPr/>
              <p:nvPr/>
            </p:nvSpPr>
            <p:spPr>
              <a:xfrm>
                <a:off x="3340080" y="6125760"/>
                <a:ext cx="309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Grupo 46"/>
              <p:cNvGrpSpPr/>
              <p:nvPr/>
            </p:nvGrpSpPr>
            <p:grpSpPr>
              <a:xfrm>
                <a:off x="2964240" y="1860480"/>
                <a:ext cx="3883320" cy="4402440"/>
                <a:chOff x="2964240" y="1860480"/>
                <a:chExt cx="3883320" cy="4402440"/>
              </a:xfrm>
            </p:grpSpPr>
            <p:grpSp>
              <p:nvGrpSpPr>
                <p:cNvPr id="128" name="Grupo 47"/>
                <p:cNvGrpSpPr/>
                <p:nvPr/>
              </p:nvGrpSpPr>
              <p:grpSpPr>
                <a:xfrm>
                  <a:off x="2964240" y="1997640"/>
                  <a:ext cx="3883320" cy="4264560"/>
                  <a:chOff x="2964240" y="1997640"/>
                  <a:chExt cx="3883320" cy="4264560"/>
                </a:xfrm>
              </p:grpSpPr>
              <p:grpSp>
                <p:nvGrpSpPr>
                  <p:cNvPr id="129" name="Grupo 48"/>
                  <p:cNvGrpSpPr/>
                  <p:nvPr/>
                </p:nvGrpSpPr>
                <p:grpSpPr>
                  <a:xfrm>
                    <a:off x="2964240" y="1997640"/>
                    <a:ext cx="3206880" cy="962640"/>
                    <a:chOff x="2964240" y="1997640"/>
                    <a:chExt cx="3206880" cy="962640"/>
                  </a:xfrm>
                </p:grpSpPr>
                <p:grpSp>
                  <p:nvGrpSpPr>
                    <p:cNvPr id="130" name="Grupo 49"/>
                    <p:cNvGrpSpPr/>
                    <p:nvPr/>
                  </p:nvGrpSpPr>
                  <p:grpSpPr>
                    <a:xfrm>
                      <a:off x="4681080" y="1997640"/>
                      <a:ext cx="1490040" cy="962640"/>
                      <a:chOff x="4681080" y="1997640"/>
                      <a:chExt cx="1490040" cy="962640"/>
                    </a:xfrm>
                  </p:grpSpPr>
                  <p:grpSp>
                    <p:nvGrpSpPr>
                      <p:cNvPr id="131" name="Grupo 50"/>
                      <p:cNvGrpSpPr/>
                      <p:nvPr/>
                    </p:nvGrpSpPr>
                    <p:grpSpPr>
                      <a:xfrm>
                        <a:off x="5124240" y="1997640"/>
                        <a:ext cx="1046880" cy="962640"/>
                        <a:chOff x="5124240" y="1997640"/>
                        <a:chExt cx="1046880" cy="962640"/>
                      </a:xfrm>
                    </p:grpSpPr>
                    <p:grpSp>
                      <p:nvGrpSpPr>
                        <p:cNvPr id="132" name="Grupo 51"/>
                        <p:cNvGrpSpPr/>
                        <p:nvPr/>
                      </p:nvGrpSpPr>
                      <p:grpSpPr>
                        <a:xfrm>
                          <a:off x="5382360" y="1997640"/>
                          <a:ext cx="788760" cy="962640"/>
                          <a:chOff x="5382360" y="1997640"/>
                          <a:chExt cx="788760" cy="962640"/>
                        </a:xfrm>
                      </p:grpSpPr>
                      <p:grpSp>
                        <p:nvGrpSpPr>
                          <p:cNvPr id="133" name="Grupo 52"/>
                          <p:cNvGrpSpPr/>
                          <p:nvPr/>
                        </p:nvGrpSpPr>
                        <p:grpSpPr>
                          <a:xfrm>
                            <a:off x="5382360" y="2134800"/>
                            <a:ext cx="788760" cy="825480"/>
                            <a:chOff x="5382360" y="2134800"/>
                            <a:chExt cx="788760" cy="825480"/>
                          </a:xfrm>
                        </p:grpSpPr>
                        <p:grpSp>
                          <p:nvGrpSpPr>
                            <p:cNvPr id="134" name="Grupo 53"/>
                            <p:cNvGrpSpPr/>
                            <p:nvPr/>
                          </p:nvGrpSpPr>
                          <p:grpSpPr>
                            <a:xfrm>
                              <a:off x="5898600" y="2651400"/>
                              <a:ext cx="272520" cy="308880"/>
                              <a:chOff x="5898600" y="2651400"/>
                              <a:chExt cx="272520" cy="308880"/>
                            </a:xfrm>
                          </p:grpSpPr>
                          <p:sp>
                            <p:nvSpPr>
                              <p:cNvPr id="135" name="Elipse 54"/>
                              <p:cNvSpPr/>
                              <p:nvPr/>
                            </p:nvSpPr>
                            <p:spPr>
                              <a:xfrm>
                                <a:off x="5898600" y="2651400"/>
                                <a:ext cx="272520" cy="24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6" name="Cuadro de texto 55"/>
                              <p:cNvSpPr/>
                              <p:nvPr/>
                            </p:nvSpPr>
                            <p:spPr>
                              <a:xfrm>
                                <a:off x="5943960" y="2684880"/>
                                <a:ext cx="206280" cy="27540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9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rPr>
                                  <a:t>F</a:t>
                                </a:r>
                                <a:endParaRPr b="0" lang="en-US" sz="9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7" name="Grupo 56"/>
                            <p:cNvGrpSpPr/>
                            <p:nvPr/>
                          </p:nvGrpSpPr>
                          <p:grpSpPr>
                            <a:xfrm>
                              <a:off x="5382360" y="2134800"/>
                              <a:ext cx="606960" cy="549360"/>
                              <a:chOff x="5382360" y="2134800"/>
                              <a:chExt cx="606960" cy="549360"/>
                            </a:xfrm>
                          </p:grpSpPr>
                          <p:grpSp>
                            <p:nvGrpSpPr>
                              <p:cNvPr id="138" name="Grupo 57"/>
                              <p:cNvGrpSpPr/>
                              <p:nvPr/>
                            </p:nvGrpSpPr>
                            <p:grpSpPr>
                              <a:xfrm>
                                <a:off x="5382360" y="2134800"/>
                                <a:ext cx="515880" cy="412560"/>
                                <a:chOff x="5382360" y="2134800"/>
                                <a:chExt cx="515880" cy="412560"/>
                              </a:xfrm>
                            </p:grpSpPr>
                            <p:sp>
                              <p:nvSpPr>
                                <p:cNvPr id="139" name="Autoforma 58"/>
                                <p:cNvSpPr/>
                                <p:nvPr/>
                              </p:nvSpPr>
                              <p:spPr>
                                <a:xfrm rot="10800000">
                                  <a:off x="5382360" y="2134800"/>
                                  <a:ext cx="515880" cy="412560"/>
                                </a:xfrm>
                                <a:prstGeom prst="pentagon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 rot="10800000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0" name="Cuadro de texto 59"/>
                                <p:cNvSpPr/>
                                <p:nvPr/>
                              </p:nvSpPr>
                              <p:spPr>
                                <a:xfrm>
                                  <a:off x="5485680" y="2217240"/>
                                  <a:ext cx="309600" cy="275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s-ES" sz="1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Az</a:t>
                                  </a:r>
                                  <a:endPara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41" name="Grupo 60"/>
                              <p:cNvGrpSpPr/>
                              <p:nvPr/>
                            </p:nvGrpSpPr>
                            <p:grpSpPr>
                              <a:xfrm>
                                <a:off x="5840640" y="2401560"/>
                                <a:ext cx="148680" cy="282600"/>
                                <a:chOff x="5840640" y="2401560"/>
                                <a:chExt cx="148680" cy="282600"/>
                              </a:xfrm>
                            </p:grpSpPr>
                            <p:sp>
                              <p:nvSpPr>
                                <p:cNvPr id="142" name="Línea 61"/>
                                <p:cNvSpPr/>
                                <p:nvPr/>
                              </p:nvSpPr>
                              <p:spPr>
                                <a:xfrm flipH="1" flipV="1">
                                  <a:off x="5840640" y="2563920"/>
                                  <a:ext cx="148680" cy="1202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3" name="Línea 62"/>
                                <p:cNvSpPr/>
                                <p:nvPr/>
                              </p:nvSpPr>
                              <p:spPr>
                                <a:xfrm flipH="1">
                                  <a:off x="5845680" y="2401560"/>
                                  <a:ext cx="41760" cy="181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44" name="Línea 63"/>
                          <p:cNvSpPr/>
                          <p:nvPr/>
                        </p:nvSpPr>
                        <p:spPr>
                          <a:xfrm flipH="1">
                            <a:off x="5795280" y="1997640"/>
                            <a:ext cx="102960" cy="137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45" name="Línea 64"/>
                        <p:cNvSpPr/>
                        <p:nvPr/>
                      </p:nvSpPr>
                      <p:spPr>
                        <a:xfrm>
                          <a:off x="5124240" y="2200680"/>
                          <a:ext cx="266760" cy="185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6" name="Grupo 65"/>
                      <p:cNvGrpSpPr/>
                      <p:nvPr/>
                    </p:nvGrpSpPr>
                    <p:grpSpPr>
                      <a:xfrm>
                        <a:off x="4681080" y="2135160"/>
                        <a:ext cx="495000" cy="275040"/>
                        <a:chOff x="4681080" y="2135160"/>
                        <a:chExt cx="495000" cy="275040"/>
                      </a:xfrm>
                    </p:grpSpPr>
                    <p:sp>
                      <p:nvSpPr>
                        <p:cNvPr id="147" name="Autoforma 66"/>
                        <p:cNvSpPr/>
                        <p:nvPr/>
                      </p:nvSpPr>
                      <p:spPr>
                        <a:xfrm>
                          <a:off x="4681080" y="2135160"/>
                          <a:ext cx="495000" cy="219960"/>
                        </a:xfrm>
                        <a:custGeom>
                          <a:avLst/>
                          <a:gdLst>
                            <a:gd name="textAreaLeft" fmla="*/ 0 w 495000"/>
                            <a:gd name="textAreaRight" fmla="*/ 495360 w 495000"/>
                            <a:gd name="textAreaTop" fmla="*/ 0 h 219960"/>
                            <a:gd name="textAreaBottom" fmla="*/ 220320 h 2199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16200" y="0"/>
                              </a:lnTo>
                              <a:lnTo>
                                <a:pt x="21600" y="10800"/>
                              </a:lnTo>
                              <a:lnTo>
                                <a:pt x="16200" y="21600"/>
                              </a:lnTo>
                              <a:lnTo>
                                <a:pt x="0" y="21600"/>
                              </a:lnTo>
                              <a:lnTo>
                                <a:pt x="540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Cuadro de texto 67"/>
                        <p:cNvSpPr/>
                        <p:nvPr/>
                      </p:nvSpPr>
                      <p:spPr>
                        <a:xfrm>
                          <a:off x="4784040" y="2135160"/>
                          <a:ext cx="30924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9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T</a:t>
                          </a:r>
                          <a:endPara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9" name="Grupo 68"/>
                    <p:cNvGrpSpPr/>
                    <p:nvPr/>
                  </p:nvGrpSpPr>
                  <p:grpSpPr>
                    <a:xfrm>
                      <a:off x="2964240" y="1997640"/>
                      <a:ext cx="1555920" cy="825120"/>
                      <a:chOff x="2964240" y="1997640"/>
                      <a:chExt cx="1555920" cy="825120"/>
                    </a:xfrm>
                  </p:grpSpPr>
                  <p:grpSp>
                    <p:nvGrpSpPr>
                      <p:cNvPr id="150" name="Grupo 69"/>
                      <p:cNvGrpSpPr/>
                      <p:nvPr/>
                    </p:nvGrpSpPr>
                    <p:grpSpPr>
                      <a:xfrm>
                        <a:off x="2964240" y="1997640"/>
                        <a:ext cx="1194120" cy="825120"/>
                        <a:chOff x="2964240" y="1997640"/>
                        <a:chExt cx="1194120" cy="825120"/>
                      </a:xfrm>
                    </p:grpSpPr>
                    <p:grpSp>
                      <p:nvGrpSpPr>
                        <p:cNvPr id="151" name="Grupo 70"/>
                        <p:cNvGrpSpPr/>
                        <p:nvPr/>
                      </p:nvGrpSpPr>
                      <p:grpSpPr>
                        <a:xfrm>
                          <a:off x="2964240" y="1997640"/>
                          <a:ext cx="891000" cy="825120"/>
                          <a:chOff x="2964240" y="1997640"/>
                          <a:chExt cx="891000" cy="825120"/>
                        </a:xfrm>
                      </p:grpSpPr>
                      <p:grpSp>
                        <p:nvGrpSpPr>
                          <p:cNvPr id="152" name="Grupo 71"/>
                          <p:cNvGrpSpPr/>
                          <p:nvPr/>
                        </p:nvGrpSpPr>
                        <p:grpSpPr>
                          <a:xfrm>
                            <a:off x="2964240" y="1997640"/>
                            <a:ext cx="272520" cy="308520"/>
                            <a:chOff x="2964240" y="1997640"/>
                            <a:chExt cx="272520" cy="308520"/>
                          </a:xfrm>
                        </p:grpSpPr>
                        <p:sp>
                          <p:nvSpPr>
                            <p:cNvPr id="153" name="Elipse 72"/>
                            <p:cNvSpPr/>
                            <p:nvPr/>
                          </p:nvSpPr>
                          <p:spPr>
                            <a:xfrm>
                              <a:off x="2964240" y="1997640"/>
                              <a:ext cx="272520" cy="24228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4" name="Cuadro de texto 73"/>
                            <p:cNvSpPr/>
                            <p:nvPr/>
                          </p:nvSpPr>
                          <p:spPr>
                            <a:xfrm>
                              <a:off x="3009600" y="2031120"/>
                              <a:ext cx="206280" cy="275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" sz="9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rPr>
                                <a:t>F</a:t>
                              </a:r>
                              <a:endParaRPr b="0" lang="en-US" sz="9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5" name="Grupo 74"/>
                          <p:cNvGrpSpPr/>
                          <p:nvPr/>
                        </p:nvGrpSpPr>
                        <p:grpSpPr>
                          <a:xfrm>
                            <a:off x="3339720" y="2272680"/>
                            <a:ext cx="515520" cy="412920"/>
                            <a:chOff x="3339720" y="2272680"/>
                            <a:chExt cx="515520" cy="412920"/>
                          </a:xfrm>
                        </p:grpSpPr>
                        <p:sp>
                          <p:nvSpPr>
                            <p:cNvPr id="156" name="Autoforma 75"/>
                            <p:cNvSpPr/>
                            <p:nvPr/>
                          </p:nvSpPr>
                          <p:spPr>
                            <a:xfrm>
                              <a:off x="3339720" y="2272680"/>
                              <a:ext cx="515520" cy="412920"/>
                            </a:xfrm>
                            <a:prstGeom prst="pentagon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7" name="Cuadro de texto 76"/>
                            <p:cNvSpPr/>
                            <p:nvPr/>
                          </p:nvSpPr>
                          <p:spPr>
                            <a:xfrm>
                              <a:off x="3442680" y="2410200"/>
                              <a:ext cx="309240" cy="275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Az</a:t>
                              </a:r>
                              <a:endParaRPr b="0" lang="en-US" sz="1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8" name="Grupo 77"/>
                          <p:cNvGrpSpPr/>
                          <p:nvPr/>
                        </p:nvGrpSpPr>
                        <p:grpSpPr>
                          <a:xfrm>
                            <a:off x="3236760" y="2135160"/>
                            <a:ext cx="102960" cy="275040"/>
                            <a:chOff x="3236760" y="2135160"/>
                            <a:chExt cx="102960" cy="275040"/>
                          </a:xfrm>
                        </p:grpSpPr>
                        <p:sp>
                          <p:nvSpPr>
                            <p:cNvPr id="159" name="Línea 78"/>
                            <p:cNvSpPr/>
                            <p:nvPr/>
                          </p:nvSpPr>
                          <p:spPr>
                            <a:xfrm>
                              <a:off x="3236760" y="2135160"/>
                              <a:ext cx="102960" cy="13752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0" name="Línea 79"/>
                            <p:cNvSpPr/>
                            <p:nvPr/>
                          </p:nvSpPr>
                          <p:spPr>
                            <a:xfrm>
                              <a:off x="3339720" y="2272680"/>
                              <a:ext cx="0" cy="13752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61" name="Línea 80"/>
                          <p:cNvSpPr/>
                          <p:nvPr/>
                        </p:nvSpPr>
                        <p:spPr>
                          <a:xfrm flipH="1">
                            <a:off x="3339720" y="2685600"/>
                            <a:ext cx="102960" cy="137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62" name="Línea 81"/>
                        <p:cNvSpPr/>
                        <p:nvPr/>
                      </p:nvSpPr>
                      <p:spPr>
                        <a:xfrm flipV="1">
                          <a:off x="3862080" y="2259360"/>
                          <a:ext cx="296280" cy="16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3" name="Grupo 82"/>
                      <p:cNvGrpSpPr/>
                      <p:nvPr/>
                    </p:nvGrpSpPr>
                    <p:grpSpPr>
                      <a:xfrm>
                        <a:off x="4107600" y="2135160"/>
                        <a:ext cx="412560" cy="275040"/>
                        <a:chOff x="4107600" y="2135160"/>
                        <a:chExt cx="412560" cy="275040"/>
                      </a:xfrm>
                    </p:grpSpPr>
                    <p:sp>
                      <p:nvSpPr>
                        <p:cNvPr id="164" name="Autoforma 83"/>
                        <p:cNvSpPr/>
                        <p:nvPr/>
                      </p:nvSpPr>
                      <p:spPr>
                        <a:xfrm>
                          <a:off x="4107600" y="2135160"/>
                          <a:ext cx="412560" cy="219960"/>
                        </a:xfrm>
                        <a:custGeom>
                          <a:avLst/>
                          <a:gdLst>
                            <a:gd name="textAreaLeft" fmla="*/ 0 w 412560"/>
                            <a:gd name="textAreaRight" fmla="*/ 412920 w 412560"/>
                            <a:gd name="textAreaTop" fmla="*/ 0 h 219960"/>
                            <a:gd name="textAreaBottom" fmla="*/ 220320 h 2199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16200" y="0"/>
                              </a:lnTo>
                              <a:lnTo>
                                <a:pt x="21600" y="10800"/>
                              </a:lnTo>
                              <a:lnTo>
                                <a:pt x="16200" y="21600"/>
                              </a:lnTo>
                              <a:lnTo>
                                <a:pt x="0" y="216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Cuadro de texto 84"/>
                        <p:cNvSpPr/>
                        <p:nvPr/>
                      </p:nvSpPr>
                      <p:spPr>
                        <a:xfrm>
                          <a:off x="4107600" y="2135160"/>
                          <a:ext cx="30924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9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A</a:t>
                          </a:r>
                          <a:endPara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6" name="Grupo 85"/>
                    <p:cNvGrpSpPr/>
                    <p:nvPr/>
                  </p:nvGrpSpPr>
                  <p:grpSpPr>
                    <a:xfrm>
                      <a:off x="4474800" y="2158560"/>
                      <a:ext cx="206280" cy="137520"/>
                      <a:chOff x="4474800" y="2158560"/>
                      <a:chExt cx="206280" cy="137520"/>
                    </a:xfrm>
                  </p:grpSpPr>
                  <p:sp>
                    <p:nvSpPr>
                      <p:cNvPr id="167" name="Línea 86"/>
                      <p:cNvSpPr/>
                      <p:nvPr/>
                    </p:nvSpPr>
                    <p:spPr>
                      <a:xfrm>
                        <a:off x="4474800" y="2158560"/>
                        <a:ext cx="206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8" name="Línea 87"/>
                      <p:cNvSpPr/>
                      <p:nvPr/>
                    </p:nvSpPr>
                    <p:spPr>
                      <a:xfrm>
                        <a:off x="4474800" y="2296080"/>
                        <a:ext cx="206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69" name="Grupo 88"/>
                  <p:cNvGrpSpPr/>
                  <p:nvPr/>
                </p:nvGrpSpPr>
                <p:grpSpPr>
                  <a:xfrm>
                    <a:off x="3087720" y="2822760"/>
                    <a:ext cx="3243600" cy="962640"/>
                    <a:chOff x="3087720" y="2822760"/>
                    <a:chExt cx="3243600" cy="962640"/>
                  </a:xfrm>
                </p:grpSpPr>
                <p:grpSp>
                  <p:nvGrpSpPr>
                    <p:cNvPr id="170" name="Grupo 89"/>
                    <p:cNvGrpSpPr/>
                    <p:nvPr/>
                  </p:nvGrpSpPr>
                  <p:grpSpPr>
                    <a:xfrm>
                      <a:off x="4841280" y="2822760"/>
                      <a:ext cx="1490040" cy="962640"/>
                      <a:chOff x="4841280" y="2822760"/>
                      <a:chExt cx="1490040" cy="962640"/>
                    </a:xfrm>
                  </p:grpSpPr>
                  <p:grpSp>
                    <p:nvGrpSpPr>
                      <p:cNvPr id="171" name="Grupo 90"/>
                      <p:cNvGrpSpPr/>
                      <p:nvPr/>
                    </p:nvGrpSpPr>
                    <p:grpSpPr>
                      <a:xfrm>
                        <a:off x="5284440" y="2822760"/>
                        <a:ext cx="1046880" cy="962640"/>
                        <a:chOff x="5284440" y="2822760"/>
                        <a:chExt cx="1046880" cy="962640"/>
                      </a:xfrm>
                    </p:grpSpPr>
                    <p:grpSp>
                      <p:nvGrpSpPr>
                        <p:cNvPr id="172" name="Grupo 91"/>
                        <p:cNvGrpSpPr/>
                        <p:nvPr/>
                      </p:nvGrpSpPr>
                      <p:grpSpPr>
                        <a:xfrm>
                          <a:off x="5542560" y="2822760"/>
                          <a:ext cx="788760" cy="962640"/>
                          <a:chOff x="5542560" y="2822760"/>
                          <a:chExt cx="788760" cy="962640"/>
                        </a:xfrm>
                      </p:grpSpPr>
                      <p:grpSp>
                        <p:nvGrpSpPr>
                          <p:cNvPr id="173" name="Grupo 92"/>
                          <p:cNvGrpSpPr/>
                          <p:nvPr/>
                        </p:nvGrpSpPr>
                        <p:grpSpPr>
                          <a:xfrm>
                            <a:off x="5542560" y="2959920"/>
                            <a:ext cx="788760" cy="825480"/>
                            <a:chOff x="5542560" y="2959920"/>
                            <a:chExt cx="788760" cy="825480"/>
                          </a:xfrm>
                        </p:grpSpPr>
                        <p:grpSp>
                          <p:nvGrpSpPr>
                            <p:cNvPr id="174" name="Grupo 93"/>
                            <p:cNvGrpSpPr/>
                            <p:nvPr/>
                          </p:nvGrpSpPr>
                          <p:grpSpPr>
                            <a:xfrm>
                              <a:off x="6058800" y="3476520"/>
                              <a:ext cx="272520" cy="308880"/>
                              <a:chOff x="6058800" y="3476520"/>
                              <a:chExt cx="272520" cy="308880"/>
                            </a:xfrm>
                          </p:grpSpPr>
                          <p:sp>
                            <p:nvSpPr>
                              <p:cNvPr id="175" name="Elipse 94"/>
                              <p:cNvSpPr/>
                              <p:nvPr/>
                            </p:nvSpPr>
                            <p:spPr>
                              <a:xfrm>
                                <a:off x="6058800" y="3476520"/>
                                <a:ext cx="272520" cy="24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6" name="Cuadro de texto 95"/>
                              <p:cNvSpPr/>
                              <p:nvPr/>
                            </p:nvSpPr>
                            <p:spPr>
                              <a:xfrm>
                                <a:off x="6104160" y="3510000"/>
                                <a:ext cx="206280" cy="27540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9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rPr>
                                  <a:t>F</a:t>
                                </a:r>
                                <a:endParaRPr b="0" lang="en-US" sz="9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77" name="Grupo 96"/>
                            <p:cNvGrpSpPr/>
                            <p:nvPr/>
                          </p:nvGrpSpPr>
                          <p:grpSpPr>
                            <a:xfrm>
                              <a:off x="5542560" y="2959920"/>
                              <a:ext cx="606960" cy="549360"/>
                              <a:chOff x="5542560" y="2959920"/>
                              <a:chExt cx="606960" cy="549360"/>
                            </a:xfrm>
                          </p:grpSpPr>
                          <p:grpSp>
                            <p:nvGrpSpPr>
                              <p:cNvPr id="178" name="Grupo 97"/>
                              <p:cNvGrpSpPr/>
                              <p:nvPr/>
                            </p:nvGrpSpPr>
                            <p:grpSpPr>
                              <a:xfrm>
                                <a:off x="5542560" y="2959920"/>
                                <a:ext cx="515880" cy="412560"/>
                                <a:chOff x="5542560" y="2959920"/>
                                <a:chExt cx="515880" cy="412560"/>
                              </a:xfrm>
                            </p:grpSpPr>
                            <p:sp>
                              <p:nvSpPr>
                                <p:cNvPr id="179" name="Autoforma 98"/>
                                <p:cNvSpPr/>
                                <p:nvPr/>
                              </p:nvSpPr>
                              <p:spPr>
                                <a:xfrm rot="10800000">
                                  <a:off x="5542560" y="2959920"/>
                                  <a:ext cx="515880" cy="412560"/>
                                </a:xfrm>
                                <a:prstGeom prst="pentagon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 rot="10800000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0" name="Cuadro de texto 99"/>
                                <p:cNvSpPr/>
                                <p:nvPr/>
                              </p:nvSpPr>
                              <p:spPr>
                                <a:xfrm>
                                  <a:off x="5645880" y="3042360"/>
                                  <a:ext cx="309600" cy="275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s-ES" sz="1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Az</a:t>
                                  </a:r>
                                  <a:endPara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81" name="Grupo 100"/>
                              <p:cNvGrpSpPr/>
                              <p:nvPr/>
                            </p:nvGrpSpPr>
                            <p:grpSpPr>
                              <a:xfrm>
                                <a:off x="6000840" y="3226680"/>
                                <a:ext cx="148680" cy="282600"/>
                                <a:chOff x="6000840" y="3226680"/>
                                <a:chExt cx="148680" cy="282600"/>
                              </a:xfrm>
                            </p:grpSpPr>
                            <p:sp>
                              <p:nvSpPr>
                                <p:cNvPr id="182" name="Línea 101"/>
                                <p:cNvSpPr/>
                                <p:nvPr/>
                              </p:nvSpPr>
                              <p:spPr>
                                <a:xfrm flipH="1" flipV="1">
                                  <a:off x="6000840" y="3389040"/>
                                  <a:ext cx="148680" cy="1202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3" name="Línea 102"/>
                                <p:cNvSpPr/>
                                <p:nvPr/>
                              </p:nvSpPr>
                              <p:spPr>
                                <a:xfrm flipH="1">
                                  <a:off x="6005880" y="3226680"/>
                                  <a:ext cx="41760" cy="181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84" name="Línea 103"/>
                          <p:cNvSpPr/>
                          <p:nvPr/>
                        </p:nvSpPr>
                        <p:spPr>
                          <a:xfrm flipH="1">
                            <a:off x="5955480" y="2822760"/>
                            <a:ext cx="102960" cy="137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85" name="Línea 104"/>
                        <p:cNvSpPr/>
                        <p:nvPr/>
                      </p:nvSpPr>
                      <p:spPr>
                        <a:xfrm>
                          <a:off x="5284440" y="3025800"/>
                          <a:ext cx="266760" cy="185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86" name="Grupo 105"/>
                      <p:cNvGrpSpPr/>
                      <p:nvPr/>
                    </p:nvGrpSpPr>
                    <p:grpSpPr>
                      <a:xfrm>
                        <a:off x="4841280" y="2959560"/>
                        <a:ext cx="495000" cy="275400"/>
                        <a:chOff x="4841280" y="2959560"/>
                        <a:chExt cx="495000" cy="275400"/>
                      </a:xfrm>
                    </p:grpSpPr>
                    <p:sp>
                      <p:nvSpPr>
                        <p:cNvPr id="187" name="Autoforma 106"/>
                        <p:cNvSpPr/>
                        <p:nvPr/>
                      </p:nvSpPr>
                      <p:spPr>
                        <a:xfrm rot="10800000">
                          <a:off x="4841280" y="2959560"/>
                          <a:ext cx="495000" cy="219960"/>
                        </a:xfrm>
                        <a:prstGeom prst="flowChartOnlineStorage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 rot="10800000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Cuadro de texto 107"/>
                        <p:cNvSpPr/>
                        <p:nvPr/>
                      </p:nvSpPr>
                      <p:spPr>
                        <a:xfrm>
                          <a:off x="4944600" y="2959920"/>
                          <a:ext cx="30924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9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89" name="Grupo 108"/>
                    <p:cNvGrpSpPr/>
                    <p:nvPr/>
                  </p:nvGrpSpPr>
                  <p:grpSpPr>
                    <a:xfrm>
                      <a:off x="3087720" y="2822760"/>
                      <a:ext cx="1753560" cy="825120"/>
                      <a:chOff x="3087720" y="2822760"/>
                      <a:chExt cx="1753560" cy="825120"/>
                    </a:xfrm>
                  </p:grpSpPr>
                  <p:grpSp>
                    <p:nvGrpSpPr>
                      <p:cNvPr id="190" name="Grupo 109"/>
                      <p:cNvGrpSpPr/>
                      <p:nvPr/>
                    </p:nvGrpSpPr>
                    <p:grpSpPr>
                      <a:xfrm>
                        <a:off x="3087720" y="2822760"/>
                        <a:ext cx="1547280" cy="825120"/>
                        <a:chOff x="3087720" y="2822760"/>
                        <a:chExt cx="1547280" cy="825120"/>
                      </a:xfrm>
                    </p:grpSpPr>
                    <p:grpSp>
                      <p:nvGrpSpPr>
                        <p:cNvPr id="191" name="Grupo 110"/>
                        <p:cNvGrpSpPr/>
                        <p:nvPr/>
                      </p:nvGrpSpPr>
                      <p:grpSpPr>
                        <a:xfrm>
                          <a:off x="3087720" y="2822760"/>
                          <a:ext cx="1194120" cy="825120"/>
                          <a:chOff x="3087720" y="2822760"/>
                          <a:chExt cx="1194120" cy="825120"/>
                        </a:xfrm>
                      </p:grpSpPr>
                      <p:grpSp>
                        <p:nvGrpSpPr>
                          <p:cNvPr id="192" name="Grupo 111"/>
                          <p:cNvGrpSpPr/>
                          <p:nvPr/>
                        </p:nvGrpSpPr>
                        <p:grpSpPr>
                          <a:xfrm>
                            <a:off x="3087720" y="2822760"/>
                            <a:ext cx="891000" cy="825120"/>
                            <a:chOff x="3087720" y="2822760"/>
                            <a:chExt cx="891000" cy="825120"/>
                          </a:xfrm>
                        </p:grpSpPr>
                        <p:grpSp>
                          <p:nvGrpSpPr>
                            <p:cNvPr id="193" name="Grupo 112"/>
                            <p:cNvGrpSpPr/>
                            <p:nvPr/>
                          </p:nvGrpSpPr>
                          <p:grpSpPr>
                            <a:xfrm>
                              <a:off x="3087720" y="2822760"/>
                              <a:ext cx="272520" cy="308520"/>
                              <a:chOff x="3087720" y="2822760"/>
                              <a:chExt cx="272520" cy="308520"/>
                            </a:xfrm>
                          </p:grpSpPr>
                          <p:sp>
                            <p:nvSpPr>
                              <p:cNvPr id="194" name="Elipse 113"/>
                              <p:cNvSpPr/>
                              <p:nvPr/>
                            </p:nvSpPr>
                            <p:spPr>
                              <a:xfrm>
                                <a:off x="3087720" y="2822760"/>
                                <a:ext cx="272520" cy="24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5" name="Cuadro de texto 114"/>
                              <p:cNvSpPr/>
                              <p:nvPr/>
                            </p:nvSpPr>
                            <p:spPr>
                              <a:xfrm>
                                <a:off x="3133080" y="2856240"/>
                                <a:ext cx="206280" cy="27504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9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rPr>
                                  <a:t>F</a:t>
                                </a:r>
                                <a:endParaRPr b="0" lang="en-US" sz="9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96" name="Grupo 115"/>
                            <p:cNvGrpSpPr/>
                            <p:nvPr/>
                          </p:nvGrpSpPr>
                          <p:grpSpPr>
                            <a:xfrm>
                              <a:off x="3463200" y="3097800"/>
                              <a:ext cx="515520" cy="412920"/>
                              <a:chOff x="3463200" y="3097800"/>
                              <a:chExt cx="515520" cy="412920"/>
                            </a:xfrm>
                          </p:grpSpPr>
                          <p:sp>
                            <p:nvSpPr>
                              <p:cNvPr id="197" name="Autoforma 116"/>
                              <p:cNvSpPr/>
                              <p:nvPr/>
                            </p:nvSpPr>
                            <p:spPr>
                              <a:xfrm>
                                <a:off x="3463200" y="3097800"/>
                                <a:ext cx="515520" cy="412920"/>
                              </a:xfrm>
                              <a:prstGeom prst="pentagon">
                                <a:avLst/>
                              </a:prstGeom>
                              <a:solidFill>
                                <a:srgbClr val="ffff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8" name="Cuadro de texto 117"/>
                              <p:cNvSpPr/>
                              <p:nvPr/>
                            </p:nvSpPr>
                            <p:spPr>
                              <a:xfrm>
                                <a:off x="3566160" y="3235320"/>
                                <a:ext cx="309240" cy="27504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Az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99" name="Grupo 118"/>
                            <p:cNvGrpSpPr/>
                            <p:nvPr/>
                          </p:nvGrpSpPr>
                          <p:grpSpPr>
                            <a:xfrm>
                              <a:off x="3360240" y="2960280"/>
                              <a:ext cx="102960" cy="275040"/>
                              <a:chOff x="3360240" y="2960280"/>
                              <a:chExt cx="102960" cy="275040"/>
                            </a:xfrm>
                          </p:grpSpPr>
                          <p:sp>
                            <p:nvSpPr>
                              <p:cNvPr id="200" name="Línea 119"/>
                              <p:cNvSpPr/>
                              <p:nvPr/>
                            </p:nvSpPr>
                            <p:spPr>
                              <a:xfrm>
                                <a:off x="3360240" y="2960280"/>
                                <a:ext cx="102960" cy="1375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1" name="Línea 120"/>
                              <p:cNvSpPr/>
                              <p:nvPr/>
                            </p:nvSpPr>
                            <p:spPr>
                              <a:xfrm>
                                <a:off x="3463200" y="3097800"/>
                                <a:ext cx="0" cy="1375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02" name="Línea 121"/>
                            <p:cNvSpPr/>
                            <p:nvPr/>
                          </p:nvSpPr>
                          <p:spPr>
                            <a:xfrm flipH="1">
                              <a:off x="3463200" y="3510720"/>
                              <a:ext cx="102960" cy="1371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03" name="Línea 122"/>
                          <p:cNvSpPr/>
                          <p:nvPr/>
                        </p:nvSpPr>
                        <p:spPr>
                          <a:xfrm flipV="1">
                            <a:off x="3985560" y="3084480"/>
                            <a:ext cx="296280" cy="164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04" name="Grupo 123"/>
                        <p:cNvGrpSpPr/>
                        <p:nvPr/>
                      </p:nvGrpSpPr>
                      <p:grpSpPr>
                        <a:xfrm>
                          <a:off x="4222440" y="2960280"/>
                          <a:ext cx="412560" cy="275040"/>
                          <a:chOff x="4222440" y="2960280"/>
                          <a:chExt cx="412560" cy="275040"/>
                        </a:xfrm>
                      </p:grpSpPr>
                      <p:sp>
                        <p:nvSpPr>
                          <p:cNvPr id="205" name="Autoforma 124"/>
                          <p:cNvSpPr/>
                          <p:nvPr/>
                        </p:nvSpPr>
                        <p:spPr>
                          <a:xfrm>
                            <a:off x="4222440" y="2960280"/>
                            <a:ext cx="412560" cy="219960"/>
                          </a:xfrm>
                          <a:prstGeom prst="flowChartDelay">
                            <a:avLst/>
                          </a:prstGeom>
                          <a:solidFill>
                            <a:srgbClr val="c0c0c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6" name="Cuadro de texto 125"/>
                          <p:cNvSpPr/>
                          <p:nvPr/>
                        </p:nvSpPr>
                        <p:spPr>
                          <a:xfrm>
                            <a:off x="4222440" y="2960280"/>
                            <a:ext cx="309240" cy="2750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" sz="9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G</a:t>
                            </a:r>
                            <a:endParaRPr b="0" lang="en-US" sz="9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07" name="Grupo 126"/>
                      <p:cNvGrpSpPr/>
                      <p:nvPr/>
                    </p:nvGrpSpPr>
                    <p:grpSpPr>
                      <a:xfrm>
                        <a:off x="4635000" y="2960280"/>
                        <a:ext cx="206280" cy="208440"/>
                        <a:chOff x="4635000" y="2960280"/>
                        <a:chExt cx="206280" cy="208440"/>
                      </a:xfrm>
                    </p:grpSpPr>
                    <p:sp>
                      <p:nvSpPr>
                        <p:cNvPr id="208" name="Línea 127"/>
                        <p:cNvSpPr/>
                        <p:nvPr/>
                      </p:nvSpPr>
                      <p:spPr>
                        <a:xfrm>
                          <a:off x="4635000" y="296028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Línea 128"/>
                        <p:cNvSpPr/>
                        <p:nvPr/>
                      </p:nvSpPr>
                      <p:spPr>
                        <a:xfrm>
                          <a:off x="4635000" y="306252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Línea 129"/>
                        <p:cNvSpPr/>
                        <p:nvPr/>
                      </p:nvSpPr>
                      <p:spPr>
                        <a:xfrm>
                          <a:off x="4635000" y="316872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11" name="Grupo 130"/>
                  <p:cNvGrpSpPr/>
                  <p:nvPr/>
                </p:nvGrpSpPr>
                <p:grpSpPr>
                  <a:xfrm>
                    <a:off x="3294360" y="3648600"/>
                    <a:ext cx="3243600" cy="962640"/>
                    <a:chOff x="3294360" y="3648600"/>
                    <a:chExt cx="3243600" cy="962640"/>
                  </a:xfrm>
                </p:grpSpPr>
                <p:grpSp>
                  <p:nvGrpSpPr>
                    <p:cNvPr id="212" name="Grupo 131"/>
                    <p:cNvGrpSpPr/>
                    <p:nvPr/>
                  </p:nvGrpSpPr>
                  <p:grpSpPr>
                    <a:xfrm>
                      <a:off x="5047920" y="3648600"/>
                      <a:ext cx="1490040" cy="962640"/>
                      <a:chOff x="5047920" y="3648600"/>
                      <a:chExt cx="1490040" cy="962640"/>
                    </a:xfrm>
                  </p:grpSpPr>
                  <p:grpSp>
                    <p:nvGrpSpPr>
                      <p:cNvPr id="213" name="Grupo 132"/>
                      <p:cNvGrpSpPr/>
                      <p:nvPr/>
                    </p:nvGrpSpPr>
                    <p:grpSpPr>
                      <a:xfrm>
                        <a:off x="5491080" y="3648600"/>
                        <a:ext cx="1046880" cy="962640"/>
                        <a:chOff x="5491080" y="3648600"/>
                        <a:chExt cx="1046880" cy="962640"/>
                      </a:xfrm>
                    </p:grpSpPr>
                    <p:grpSp>
                      <p:nvGrpSpPr>
                        <p:cNvPr id="214" name="Grupo 133"/>
                        <p:cNvGrpSpPr/>
                        <p:nvPr/>
                      </p:nvGrpSpPr>
                      <p:grpSpPr>
                        <a:xfrm>
                          <a:off x="5749200" y="3648600"/>
                          <a:ext cx="788760" cy="962640"/>
                          <a:chOff x="5749200" y="3648600"/>
                          <a:chExt cx="788760" cy="962640"/>
                        </a:xfrm>
                      </p:grpSpPr>
                      <p:grpSp>
                        <p:nvGrpSpPr>
                          <p:cNvPr id="215" name="Grupo 134"/>
                          <p:cNvGrpSpPr/>
                          <p:nvPr/>
                        </p:nvGrpSpPr>
                        <p:grpSpPr>
                          <a:xfrm>
                            <a:off x="5749200" y="3785760"/>
                            <a:ext cx="788760" cy="825480"/>
                            <a:chOff x="5749200" y="3785760"/>
                            <a:chExt cx="788760" cy="825480"/>
                          </a:xfrm>
                        </p:grpSpPr>
                        <p:grpSp>
                          <p:nvGrpSpPr>
                            <p:cNvPr id="216" name="Grupo 135"/>
                            <p:cNvGrpSpPr/>
                            <p:nvPr/>
                          </p:nvGrpSpPr>
                          <p:grpSpPr>
                            <a:xfrm>
                              <a:off x="6265440" y="4302360"/>
                              <a:ext cx="272520" cy="308880"/>
                              <a:chOff x="6265440" y="4302360"/>
                              <a:chExt cx="272520" cy="308880"/>
                            </a:xfrm>
                          </p:grpSpPr>
                          <p:sp>
                            <p:nvSpPr>
                              <p:cNvPr id="217" name="Elipse 136"/>
                              <p:cNvSpPr/>
                              <p:nvPr/>
                            </p:nvSpPr>
                            <p:spPr>
                              <a:xfrm>
                                <a:off x="6265440" y="4302360"/>
                                <a:ext cx="272520" cy="24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8" name="Cuadro de texto 137"/>
                              <p:cNvSpPr/>
                              <p:nvPr/>
                            </p:nvSpPr>
                            <p:spPr>
                              <a:xfrm>
                                <a:off x="6310800" y="4335840"/>
                                <a:ext cx="206280" cy="27540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9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rPr>
                                  <a:t>F</a:t>
                                </a:r>
                                <a:endParaRPr b="0" lang="en-US" sz="9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19" name="Grupo 138"/>
                            <p:cNvGrpSpPr/>
                            <p:nvPr/>
                          </p:nvGrpSpPr>
                          <p:grpSpPr>
                            <a:xfrm>
                              <a:off x="5749200" y="3785760"/>
                              <a:ext cx="606960" cy="549360"/>
                              <a:chOff x="5749200" y="3785760"/>
                              <a:chExt cx="606960" cy="549360"/>
                            </a:xfrm>
                          </p:grpSpPr>
                          <p:grpSp>
                            <p:nvGrpSpPr>
                              <p:cNvPr id="220" name="Grupo 139"/>
                              <p:cNvGrpSpPr/>
                              <p:nvPr/>
                            </p:nvGrpSpPr>
                            <p:grpSpPr>
                              <a:xfrm>
                                <a:off x="5749200" y="3785760"/>
                                <a:ext cx="515880" cy="412560"/>
                                <a:chOff x="5749200" y="3785760"/>
                                <a:chExt cx="515880" cy="412560"/>
                              </a:xfrm>
                            </p:grpSpPr>
                            <p:sp>
                              <p:nvSpPr>
                                <p:cNvPr id="221" name="Autoforma 140"/>
                                <p:cNvSpPr/>
                                <p:nvPr/>
                              </p:nvSpPr>
                              <p:spPr>
                                <a:xfrm rot="10800000">
                                  <a:off x="5749200" y="3785760"/>
                                  <a:ext cx="515880" cy="412560"/>
                                </a:xfrm>
                                <a:prstGeom prst="pentagon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 rot="10800000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2" name="Cuadro de texto 141"/>
                                <p:cNvSpPr/>
                                <p:nvPr/>
                              </p:nvSpPr>
                              <p:spPr>
                                <a:xfrm>
                                  <a:off x="5852520" y="3868200"/>
                                  <a:ext cx="309600" cy="275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s-ES" sz="1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Az</a:t>
                                  </a:r>
                                  <a:endPara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23" name="Grupo 142"/>
                              <p:cNvGrpSpPr/>
                              <p:nvPr/>
                            </p:nvGrpSpPr>
                            <p:grpSpPr>
                              <a:xfrm>
                                <a:off x="6207480" y="4052520"/>
                                <a:ext cx="148680" cy="282600"/>
                                <a:chOff x="6207480" y="4052520"/>
                                <a:chExt cx="148680" cy="282600"/>
                              </a:xfrm>
                            </p:grpSpPr>
                            <p:sp>
                              <p:nvSpPr>
                                <p:cNvPr id="224" name="Línea 143"/>
                                <p:cNvSpPr/>
                                <p:nvPr/>
                              </p:nvSpPr>
                              <p:spPr>
                                <a:xfrm flipH="1" flipV="1">
                                  <a:off x="6207480" y="4214880"/>
                                  <a:ext cx="148680" cy="1202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5" name="Línea 144"/>
                                <p:cNvSpPr/>
                                <p:nvPr/>
                              </p:nvSpPr>
                              <p:spPr>
                                <a:xfrm flipH="1">
                                  <a:off x="6212520" y="4052520"/>
                                  <a:ext cx="41760" cy="181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26" name="Línea 145"/>
                          <p:cNvSpPr/>
                          <p:nvPr/>
                        </p:nvSpPr>
                        <p:spPr>
                          <a:xfrm flipH="1">
                            <a:off x="6162120" y="3648600"/>
                            <a:ext cx="102960" cy="137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ínea 146"/>
                        <p:cNvSpPr/>
                        <p:nvPr/>
                      </p:nvSpPr>
                      <p:spPr>
                        <a:xfrm>
                          <a:off x="5491080" y="3851640"/>
                          <a:ext cx="266760" cy="185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28" name="Grupo 147"/>
                      <p:cNvGrpSpPr/>
                      <p:nvPr/>
                    </p:nvGrpSpPr>
                    <p:grpSpPr>
                      <a:xfrm>
                        <a:off x="5047920" y="3785400"/>
                        <a:ext cx="495000" cy="275400"/>
                        <a:chOff x="5047920" y="3785400"/>
                        <a:chExt cx="495000" cy="275400"/>
                      </a:xfrm>
                    </p:grpSpPr>
                    <p:sp>
                      <p:nvSpPr>
                        <p:cNvPr id="229" name="Autoforma 148"/>
                        <p:cNvSpPr/>
                        <p:nvPr/>
                      </p:nvSpPr>
                      <p:spPr>
                        <a:xfrm rot="10800000">
                          <a:off x="5047920" y="3785400"/>
                          <a:ext cx="495000" cy="219960"/>
                        </a:xfrm>
                        <a:prstGeom prst="flowChartOnlineStorage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 rot="10800000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Cuadro de texto 149"/>
                        <p:cNvSpPr/>
                        <p:nvPr/>
                      </p:nvSpPr>
                      <p:spPr>
                        <a:xfrm>
                          <a:off x="5151240" y="3785760"/>
                          <a:ext cx="30924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9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31" name="Grupo 150"/>
                    <p:cNvGrpSpPr/>
                    <p:nvPr/>
                  </p:nvGrpSpPr>
                  <p:grpSpPr>
                    <a:xfrm>
                      <a:off x="3294360" y="3648600"/>
                      <a:ext cx="1753560" cy="825120"/>
                      <a:chOff x="3294360" y="3648600"/>
                      <a:chExt cx="1753560" cy="825120"/>
                    </a:xfrm>
                  </p:grpSpPr>
                  <p:grpSp>
                    <p:nvGrpSpPr>
                      <p:cNvPr id="232" name="Grupo 151"/>
                      <p:cNvGrpSpPr/>
                      <p:nvPr/>
                    </p:nvGrpSpPr>
                    <p:grpSpPr>
                      <a:xfrm>
                        <a:off x="3294360" y="3648600"/>
                        <a:ext cx="1547280" cy="825120"/>
                        <a:chOff x="3294360" y="3648600"/>
                        <a:chExt cx="1547280" cy="825120"/>
                      </a:xfrm>
                    </p:grpSpPr>
                    <p:grpSp>
                      <p:nvGrpSpPr>
                        <p:cNvPr id="233" name="Grupo 152"/>
                        <p:cNvGrpSpPr/>
                        <p:nvPr/>
                      </p:nvGrpSpPr>
                      <p:grpSpPr>
                        <a:xfrm>
                          <a:off x="3294360" y="3648600"/>
                          <a:ext cx="1194120" cy="825120"/>
                          <a:chOff x="3294360" y="3648600"/>
                          <a:chExt cx="1194120" cy="825120"/>
                        </a:xfrm>
                      </p:grpSpPr>
                      <p:grpSp>
                        <p:nvGrpSpPr>
                          <p:cNvPr id="234" name="Grupo 153"/>
                          <p:cNvGrpSpPr/>
                          <p:nvPr/>
                        </p:nvGrpSpPr>
                        <p:grpSpPr>
                          <a:xfrm>
                            <a:off x="3294360" y="3648600"/>
                            <a:ext cx="891000" cy="825120"/>
                            <a:chOff x="3294360" y="3648600"/>
                            <a:chExt cx="891000" cy="825120"/>
                          </a:xfrm>
                        </p:grpSpPr>
                        <p:grpSp>
                          <p:nvGrpSpPr>
                            <p:cNvPr id="235" name="Grupo 154"/>
                            <p:cNvGrpSpPr/>
                            <p:nvPr/>
                          </p:nvGrpSpPr>
                          <p:grpSpPr>
                            <a:xfrm>
                              <a:off x="3294360" y="3648600"/>
                              <a:ext cx="272520" cy="308520"/>
                              <a:chOff x="3294360" y="3648600"/>
                              <a:chExt cx="272520" cy="308520"/>
                            </a:xfrm>
                          </p:grpSpPr>
                          <p:sp>
                            <p:nvSpPr>
                              <p:cNvPr id="236" name="Elipse 155"/>
                              <p:cNvSpPr/>
                              <p:nvPr/>
                            </p:nvSpPr>
                            <p:spPr>
                              <a:xfrm>
                                <a:off x="3294360" y="3648600"/>
                                <a:ext cx="272520" cy="24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7" name="Cuadro de texto 156"/>
                              <p:cNvSpPr/>
                              <p:nvPr/>
                            </p:nvSpPr>
                            <p:spPr>
                              <a:xfrm>
                                <a:off x="3339720" y="3682080"/>
                                <a:ext cx="206280" cy="27504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9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rPr>
                                  <a:t>F</a:t>
                                </a:r>
                                <a:endParaRPr b="0" lang="en-US" sz="9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8" name="Grupo 157"/>
                            <p:cNvGrpSpPr/>
                            <p:nvPr/>
                          </p:nvGrpSpPr>
                          <p:grpSpPr>
                            <a:xfrm>
                              <a:off x="3669840" y="3923640"/>
                              <a:ext cx="515520" cy="412920"/>
                              <a:chOff x="3669840" y="3923640"/>
                              <a:chExt cx="515520" cy="412920"/>
                            </a:xfrm>
                          </p:grpSpPr>
                          <p:sp>
                            <p:nvSpPr>
                              <p:cNvPr id="239" name="Autoforma 158"/>
                              <p:cNvSpPr/>
                              <p:nvPr/>
                            </p:nvSpPr>
                            <p:spPr>
                              <a:xfrm>
                                <a:off x="3669840" y="3923640"/>
                                <a:ext cx="515520" cy="412920"/>
                              </a:xfrm>
                              <a:prstGeom prst="pentagon">
                                <a:avLst/>
                              </a:prstGeom>
                              <a:solidFill>
                                <a:srgbClr val="ffff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0" name="Cuadro de texto 159"/>
                              <p:cNvSpPr/>
                              <p:nvPr/>
                            </p:nvSpPr>
                            <p:spPr>
                              <a:xfrm>
                                <a:off x="3772800" y="4061160"/>
                                <a:ext cx="309240" cy="27504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Az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41" name="Grupo 160"/>
                            <p:cNvGrpSpPr/>
                            <p:nvPr/>
                          </p:nvGrpSpPr>
                          <p:grpSpPr>
                            <a:xfrm>
                              <a:off x="3566880" y="3786120"/>
                              <a:ext cx="102960" cy="275040"/>
                              <a:chOff x="3566880" y="3786120"/>
                              <a:chExt cx="102960" cy="275040"/>
                            </a:xfrm>
                          </p:grpSpPr>
                          <p:sp>
                            <p:nvSpPr>
                              <p:cNvPr id="242" name="Línea 161"/>
                              <p:cNvSpPr/>
                              <p:nvPr/>
                            </p:nvSpPr>
                            <p:spPr>
                              <a:xfrm>
                                <a:off x="3566880" y="3786120"/>
                                <a:ext cx="102960" cy="1375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3" name="Línea 162"/>
                              <p:cNvSpPr/>
                              <p:nvPr/>
                            </p:nvSpPr>
                            <p:spPr>
                              <a:xfrm>
                                <a:off x="3669840" y="3923640"/>
                                <a:ext cx="0" cy="1375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44" name="Línea 163"/>
                            <p:cNvSpPr/>
                            <p:nvPr/>
                          </p:nvSpPr>
                          <p:spPr>
                            <a:xfrm flipH="1">
                              <a:off x="3669840" y="4336560"/>
                              <a:ext cx="102960" cy="1371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45" name="Línea 164"/>
                          <p:cNvSpPr/>
                          <p:nvPr/>
                        </p:nvSpPr>
                        <p:spPr>
                          <a:xfrm flipV="1">
                            <a:off x="4192200" y="3910320"/>
                            <a:ext cx="296280" cy="164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6" name="Grupo 165"/>
                        <p:cNvGrpSpPr/>
                        <p:nvPr/>
                      </p:nvGrpSpPr>
                      <p:grpSpPr>
                        <a:xfrm>
                          <a:off x="4429080" y="3786120"/>
                          <a:ext cx="412560" cy="275040"/>
                          <a:chOff x="4429080" y="3786120"/>
                          <a:chExt cx="412560" cy="275040"/>
                        </a:xfrm>
                      </p:grpSpPr>
                      <p:sp>
                        <p:nvSpPr>
                          <p:cNvPr id="247" name="Autoforma 166"/>
                          <p:cNvSpPr/>
                          <p:nvPr/>
                        </p:nvSpPr>
                        <p:spPr>
                          <a:xfrm>
                            <a:off x="4429080" y="3786120"/>
                            <a:ext cx="412560" cy="219960"/>
                          </a:xfrm>
                          <a:prstGeom prst="flowChartDelay">
                            <a:avLst/>
                          </a:prstGeom>
                          <a:solidFill>
                            <a:srgbClr val="c0c0c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8" name="Cuadro de texto 167"/>
                          <p:cNvSpPr/>
                          <p:nvPr/>
                        </p:nvSpPr>
                        <p:spPr>
                          <a:xfrm>
                            <a:off x="4429080" y="3786120"/>
                            <a:ext cx="309240" cy="2750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" sz="9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G</a:t>
                            </a:r>
                            <a:endParaRPr b="0" lang="en-US" sz="9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49" name="Grupo 168"/>
                      <p:cNvGrpSpPr/>
                      <p:nvPr/>
                    </p:nvGrpSpPr>
                    <p:grpSpPr>
                      <a:xfrm>
                        <a:off x="4841640" y="3786120"/>
                        <a:ext cx="206280" cy="208440"/>
                        <a:chOff x="4841640" y="3786120"/>
                        <a:chExt cx="206280" cy="208440"/>
                      </a:xfrm>
                    </p:grpSpPr>
                    <p:sp>
                      <p:nvSpPr>
                        <p:cNvPr id="250" name="Línea 169"/>
                        <p:cNvSpPr/>
                        <p:nvPr/>
                      </p:nvSpPr>
                      <p:spPr>
                        <a:xfrm>
                          <a:off x="4841640" y="378612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Línea 170"/>
                        <p:cNvSpPr/>
                        <p:nvPr/>
                      </p:nvSpPr>
                      <p:spPr>
                        <a:xfrm>
                          <a:off x="4841640" y="388836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Línea 171"/>
                        <p:cNvSpPr/>
                        <p:nvPr/>
                      </p:nvSpPr>
                      <p:spPr>
                        <a:xfrm>
                          <a:off x="4841640" y="399456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53" name="Grupo 172"/>
                  <p:cNvGrpSpPr/>
                  <p:nvPr/>
                </p:nvGrpSpPr>
                <p:grpSpPr>
                  <a:xfrm>
                    <a:off x="3434400" y="4474080"/>
                    <a:ext cx="3206880" cy="962640"/>
                    <a:chOff x="3434400" y="4474080"/>
                    <a:chExt cx="3206880" cy="962640"/>
                  </a:xfrm>
                </p:grpSpPr>
                <p:grpSp>
                  <p:nvGrpSpPr>
                    <p:cNvPr id="254" name="Grupo 173"/>
                    <p:cNvGrpSpPr/>
                    <p:nvPr/>
                  </p:nvGrpSpPr>
                  <p:grpSpPr>
                    <a:xfrm>
                      <a:off x="5151240" y="4474080"/>
                      <a:ext cx="1490040" cy="962640"/>
                      <a:chOff x="5151240" y="4474080"/>
                      <a:chExt cx="1490040" cy="962640"/>
                    </a:xfrm>
                  </p:grpSpPr>
                  <p:grpSp>
                    <p:nvGrpSpPr>
                      <p:cNvPr id="255" name="Grupo 174"/>
                      <p:cNvGrpSpPr/>
                      <p:nvPr/>
                    </p:nvGrpSpPr>
                    <p:grpSpPr>
                      <a:xfrm>
                        <a:off x="5594400" y="4474080"/>
                        <a:ext cx="1046880" cy="962640"/>
                        <a:chOff x="5594400" y="4474080"/>
                        <a:chExt cx="1046880" cy="962640"/>
                      </a:xfrm>
                    </p:grpSpPr>
                    <p:grpSp>
                      <p:nvGrpSpPr>
                        <p:cNvPr id="256" name="Grupo 175"/>
                        <p:cNvGrpSpPr/>
                        <p:nvPr/>
                      </p:nvGrpSpPr>
                      <p:grpSpPr>
                        <a:xfrm>
                          <a:off x="5852520" y="4474080"/>
                          <a:ext cx="788760" cy="962640"/>
                          <a:chOff x="5852520" y="4474080"/>
                          <a:chExt cx="788760" cy="962640"/>
                        </a:xfrm>
                      </p:grpSpPr>
                      <p:grpSp>
                        <p:nvGrpSpPr>
                          <p:cNvPr id="257" name="Grupo 176"/>
                          <p:cNvGrpSpPr/>
                          <p:nvPr/>
                        </p:nvGrpSpPr>
                        <p:grpSpPr>
                          <a:xfrm>
                            <a:off x="5852520" y="4611240"/>
                            <a:ext cx="788760" cy="825480"/>
                            <a:chOff x="5852520" y="4611240"/>
                            <a:chExt cx="788760" cy="825480"/>
                          </a:xfrm>
                        </p:grpSpPr>
                        <p:grpSp>
                          <p:nvGrpSpPr>
                            <p:cNvPr id="258" name="Grupo 177"/>
                            <p:cNvGrpSpPr/>
                            <p:nvPr/>
                          </p:nvGrpSpPr>
                          <p:grpSpPr>
                            <a:xfrm>
                              <a:off x="6368760" y="5127840"/>
                              <a:ext cx="272520" cy="308880"/>
                              <a:chOff x="6368760" y="5127840"/>
                              <a:chExt cx="272520" cy="308880"/>
                            </a:xfrm>
                          </p:grpSpPr>
                          <p:sp>
                            <p:nvSpPr>
                              <p:cNvPr id="259" name="Elipse 178"/>
                              <p:cNvSpPr/>
                              <p:nvPr/>
                            </p:nvSpPr>
                            <p:spPr>
                              <a:xfrm>
                                <a:off x="6368760" y="5127840"/>
                                <a:ext cx="272520" cy="24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0" name="Cuadro de texto 179"/>
                              <p:cNvSpPr/>
                              <p:nvPr/>
                            </p:nvSpPr>
                            <p:spPr>
                              <a:xfrm>
                                <a:off x="6414120" y="5161320"/>
                                <a:ext cx="206280" cy="27540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9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rPr>
                                  <a:t>F</a:t>
                                </a:r>
                                <a:endParaRPr b="0" lang="en-US" sz="9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61" name="Grupo 180"/>
                            <p:cNvGrpSpPr/>
                            <p:nvPr/>
                          </p:nvGrpSpPr>
                          <p:grpSpPr>
                            <a:xfrm>
                              <a:off x="5852520" y="4611240"/>
                              <a:ext cx="606960" cy="549360"/>
                              <a:chOff x="5852520" y="4611240"/>
                              <a:chExt cx="606960" cy="549360"/>
                            </a:xfrm>
                          </p:grpSpPr>
                          <p:grpSp>
                            <p:nvGrpSpPr>
                              <p:cNvPr id="262" name="Grupo 181"/>
                              <p:cNvGrpSpPr/>
                              <p:nvPr/>
                            </p:nvGrpSpPr>
                            <p:grpSpPr>
                              <a:xfrm>
                                <a:off x="5852520" y="4611240"/>
                                <a:ext cx="515880" cy="412560"/>
                                <a:chOff x="5852520" y="4611240"/>
                                <a:chExt cx="515880" cy="412560"/>
                              </a:xfrm>
                            </p:grpSpPr>
                            <p:sp>
                              <p:nvSpPr>
                                <p:cNvPr id="263" name="Autoforma 182"/>
                                <p:cNvSpPr/>
                                <p:nvPr/>
                              </p:nvSpPr>
                              <p:spPr>
                                <a:xfrm rot="10800000">
                                  <a:off x="5852520" y="4611240"/>
                                  <a:ext cx="515880" cy="412560"/>
                                </a:xfrm>
                                <a:prstGeom prst="pentagon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 rot="10800000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4" name="Cuadro de texto 183"/>
                                <p:cNvSpPr/>
                                <p:nvPr/>
                              </p:nvSpPr>
                              <p:spPr>
                                <a:xfrm>
                                  <a:off x="5955840" y="4693680"/>
                                  <a:ext cx="309600" cy="275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s-ES" sz="1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Az</a:t>
                                  </a:r>
                                  <a:endPara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65" name="Grupo 184"/>
                              <p:cNvGrpSpPr/>
                              <p:nvPr/>
                            </p:nvGrpSpPr>
                            <p:grpSpPr>
                              <a:xfrm>
                                <a:off x="6310800" y="4878000"/>
                                <a:ext cx="148680" cy="282600"/>
                                <a:chOff x="6310800" y="4878000"/>
                                <a:chExt cx="148680" cy="282600"/>
                              </a:xfrm>
                            </p:grpSpPr>
                            <p:sp>
                              <p:nvSpPr>
                                <p:cNvPr id="266" name="Línea 185"/>
                                <p:cNvSpPr/>
                                <p:nvPr/>
                              </p:nvSpPr>
                              <p:spPr>
                                <a:xfrm flipH="1" flipV="1">
                                  <a:off x="6310800" y="5040360"/>
                                  <a:ext cx="148680" cy="1202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7" name="Línea 186"/>
                                <p:cNvSpPr/>
                                <p:nvPr/>
                              </p:nvSpPr>
                              <p:spPr>
                                <a:xfrm flipH="1">
                                  <a:off x="6315840" y="4878000"/>
                                  <a:ext cx="41760" cy="181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68" name="Línea 187"/>
                          <p:cNvSpPr/>
                          <p:nvPr/>
                        </p:nvSpPr>
                        <p:spPr>
                          <a:xfrm flipH="1">
                            <a:off x="6265440" y="4474080"/>
                            <a:ext cx="102960" cy="137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69" name="Línea 188"/>
                        <p:cNvSpPr/>
                        <p:nvPr/>
                      </p:nvSpPr>
                      <p:spPr>
                        <a:xfrm>
                          <a:off x="5594400" y="4677120"/>
                          <a:ext cx="266760" cy="185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0" name="Grupo 189"/>
                      <p:cNvGrpSpPr/>
                      <p:nvPr/>
                    </p:nvGrpSpPr>
                    <p:grpSpPr>
                      <a:xfrm>
                        <a:off x="5151240" y="4611600"/>
                        <a:ext cx="495000" cy="275040"/>
                        <a:chOff x="5151240" y="4611600"/>
                        <a:chExt cx="495000" cy="275040"/>
                      </a:xfrm>
                    </p:grpSpPr>
                    <p:sp>
                      <p:nvSpPr>
                        <p:cNvPr id="271" name="Autoforma 190"/>
                        <p:cNvSpPr/>
                        <p:nvPr/>
                      </p:nvSpPr>
                      <p:spPr>
                        <a:xfrm>
                          <a:off x="5151240" y="4611600"/>
                          <a:ext cx="495000" cy="219960"/>
                        </a:xfrm>
                        <a:custGeom>
                          <a:avLst/>
                          <a:gdLst>
                            <a:gd name="textAreaLeft" fmla="*/ 0 w 495000"/>
                            <a:gd name="textAreaRight" fmla="*/ 495360 w 495000"/>
                            <a:gd name="textAreaTop" fmla="*/ 0 h 219960"/>
                            <a:gd name="textAreaBottom" fmla="*/ 220320 h 2199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16200" y="0"/>
                              </a:lnTo>
                              <a:lnTo>
                                <a:pt x="21600" y="10800"/>
                              </a:lnTo>
                              <a:lnTo>
                                <a:pt x="16200" y="21600"/>
                              </a:lnTo>
                              <a:lnTo>
                                <a:pt x="0" y="21600"/>
                              </a:lnTo>
                              <a:lnTo>
                                <a:pt x="540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Cuadro de texto 191"/>
                        <p:cNvSpPr/>
                        <p:nvPr/>
                      </p:nvSpPr>
                      <p:spPr>
                        <a:xfrm>
                          <a:off x="5254200" y="4611600"/>
                          <a:ext cx="30924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9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T</a:t>
                          </a:r>
                          <a:endPara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73" name="Grupo 192"/>
                    <p:cNvGrpSpPr/>
                    <p:nvPr/>
                  </p:nvGrpSpPr>
                  <p:grpSpPr>
                    <a:xfrm>
                      <a:off x="3434400" y="4474080"/>
                      <a:ext cx="1555920" cy="825120"/>
                      <a:chOff x="3434400" y="4474080"/>
                      <a:chExt cx="1555920" cy="825120"/>
                    </a:xfrm>
                  </p:grpSpPr>
                  <p:grpSp>
                    <p:nvGrpSpPr>
                      <p:cNvPr id="274" name="Grupo 193"/>
                      <p:cNvGrpSpPr/>
                      <p:nvPr/>
                    </p:nvGrpSpPr>
                    <p:grpSpPr>
                      <a:xfrm>
                        <a:off x="3434400" y="4474080"/>
                        <a:ext cx="1194120" cy="825120"/>
                        <a:chOff x="3434400" y="4474080"/>
                        <a:chExt cx="1194120" cy="825120"/>
                      </a:xfrm>
                    </p:grpSpPr>
                    <p:grpSp>
                      <p:nvGrpSpPr>
                        <p:cNvPr id="275" name="Grupo 194"/>
                        <p:cNvGrpSpPr/>
                        <p:nvPr/>
                      </p:nvGrpSpPr>
                      <p:grpSpPr>
                        <a:xfrm>
                          <a:off x="3434400" y="4474080"/>
                          <a:ext cx="891000" cy="825120"/>
                          <a:chOff x="3434400" y="4474080"/>
                          <a:chExt cx="891000" cy="825120"/>
                        </a:xfrm>
                      </p:grpSpPr>
                      <p:grpSp>
                        <p:nvGrpSpPr>
                          <p:cNvPr id="276" name="Grupo 195"/>
                          <p:cNvGrpSpPr/>
                          <p:nvPr/>
                        </p:nvGrpSpPr>
                        <p:grpSpPr>
                          <a:xfrm>
                            <a:off x="3434400" y="4474080"/>
                            <a:ext cx="272520" cy="308520"/>
                            <a:chOff x="3434400" y="4474080"/>
                            <a:chExt cx="272520" cy="308520"/>
                          </a:xfrm>
                        </p:grpSpPr>
                        <p:sp>
                          <p:nvSpPr>
                            <p:cNvPr id="277" name="Elipse 196"/>
                            <p:cNvSpPr/>
                            <p:nvPr/>
                          </p:nvSpPr>
                          <p:spPr>
                            <a:xfrm>
                              <a:off x="3434400" y="4474080"/>
                              <a:ext cx="272520" cy="24228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8" name="Cuadro de texto 197"/>
                            <p:cNvSpPr/>
                            <p:nvPr/>
                          </p:nvSpPr>
                          <p:spPr>
                            <a:xfrm>
                              <a:off x="3479760" y="4507560"/>
                              <a:ext cx="206280" cy="275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" sz="9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rPr>
                                <a:t>F</a:t>
                              </a:r>
                              <a:endParaRPr b="0" lang="en-US" sz="9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79" name="Grupo 198"/>
                          <p:cNvGrpSpPr/>
                          <p:nvPr/>
                        </p:nvGrpSpPr>
                        <p:grpSpPr>
                          <a:xfrm>
                            <a:off x="3809880" y="4749120"/>
                            <a:ext cx="515520" cy="412920"/>
                            <a:chOff x="3809880" y="4749120"/>
                            <a:chExt cx="515520" cy="412920"/>
                          </a:xfrm>
                        </p:grpSpPr>
                        <p:sp>
                          <p:nvSpPr>
                            <p:cNvPr id="280" name="Autoforma 199"/>
                            <p:cNvSpPr/>
                            <p:nvPr/>
                          </p:nvSpPr>
                          <p:spPr>
                            <a:xfrm>
                              <a:off x="3809880" y="4749120"/>
                              <a:ext cx="515520" cy="412920"/>
                            </a:xfrm>
                            <a:prstGeom prst="pentagon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81" name="Cuadro de texto 200"/>
                            <p:cNvSpPr/>
                            <p:nvPr/>
                          </p:nvSpPr>
                          <p:spPr>
                            <a:xfrm>
                              <a:off x="3912840" y="4886640"/>
                              <a:ext cx="309240" cy="275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Az</a:t>
                              </a:r>
                              <a:endParaRPr b="0" lang="en-US" sz="1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82" name="Grupo 201"/>
                          <p:cNvGrpSpPr/>
                          <p:nvPr/>
                        </p:nvGrpSpPr>
                        <p:grpSpPr>
                          <a:xfrm>
                            <a:off x="3706920" y="4611600"/>
                            <a:ext cx="102960" cy="275040"/>
                            <a:chOff x="3706920" y="4611600"/>
                            <a:chExt cx="102960" cy="275040"/>
                          </a:xfrm>
                        </p:grpSpPr>
                        <p:sp>
                          <p:nvSpPr>
                            <p:cNvPr id="283" name="Línea 202"/>
                            <p:cNvSpPr/>
                            <p:nvPr/>
                          </p:nvSpPr>
                          <p:spPr>
                            <a:xfrm>
                              <a:off x="3706920" y="4611600"/>
                              <a:ext cx="102960" cy="13752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84" name="Línea 203"/>
                            <p:cNvSpPr/>
                            <p:nvPr/>
                          </p:nvSpPr>
                          <p:spPr>
                            <a:xfrm>
                              <a:off x="3809880" y="4749120"/>
                              <a:ext cx="0" cy="13752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85" name="Línea 204"/>
                          <p:cNvSpPr/>
                          <p:nvPr/>
                        </p:nvSpPr>
                        <p:spPr>
                          <a:xfrm flipH="1">
                            <a:off x="3809880" y="5162040"/>
                            <a:ext cx="102960" cy="137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86" name="Línea 205"/>
                        <p:cNvSpPr/>
                        <p:nvPr/>
                      </p:nvSpPr>
                      <p:spPr>
                        <a:xfrm flipV="1">
                          <a:off x="4332240" y="4735800"/>
                          <a:ext cx="296280" cy="16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7" name="Grupo 206"/>
                      <p:cNvGrpSpPr/>
                      <p:nvPr/>
                    </p:nvGrpSpPr>
                    <p:grpSpPr>
                      <a:xfrm>
                        <a:off x="4577760" y="4611600"/>
                        <a:ext cx="412560" cy="275040"/>
                        <a:chOff x="4577760" y="4611600"/>
                        <a:chExt cx="412560" cy="275040"/>
                      </a:xfrm>
                    </p:grpSpPr>
                    <p:sp>
                      <p:nvSpPr>
                        <p:cNvPr id="288" name="Autoforma 207"/>
                        <p:cNvSpPr/>
                        <p:nvPr/>
                      </p:nvSpPr>
                      <p:spPr>
                        <a:xfrm>
                          <a:off x="4577760" y="4611600"/>
                          <a:ext cx="412560" cy="219960"/>
                        </a:xfrm>
                        <a:custGeom>
                          <a:avLst/>
                          <a:gdLst>
                            <a:gd name="textAreaLeft" fmla="*/ 0 w 412560"/>
                            <a:gd name="textAreaRight" fmla="*/ 412920 w 412560"/>
                            <a:gd name="textAreaTop" fmla="*/ 0 h 219960"/>
                            <a:gd name="textAreaBottom" fmla="*/ 220320 h 2199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16200" y="0"/>
                              </a:lnTo>
                              <a:lnTo>
                                <a:pt x="21600" y="10800"/>
                              </a:lnTo>
                              <a:lnTo>
                                <a:pt x="16200" y="21600"/>
                              </a:lnTo>
                              <a:lnTo>
                                <a:pt x="0" y="216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Cuadro de texto 208"/>
                        <p:cNvSpPr/>
                        <p:nvPr/>
                      </p:nvSpPr>
                      <p:spPr>
                        <a:xfrm>
                          <a:off x="4577760" y="4611600"/>
                          <a:ext cx="30924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9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A</a:t>
                          </a:r>
                          <a:endPara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90" name="Grupo 209"/>
                    <p:cNvGrpSpPr/>
                    <p:nvPr/>
                  </p:nvGrpSpPr>
                  <p:grpSpPr>
                    <a:xfrm>
                      <a:off x="4944960" y="4635000"/>
                      <a:ext cx="206280" cy="137520"/>
                      <a:chOff x="4944960" y="4635000"/>
                      <a:chExt cx="206280" cy="137520"/>
                    </a:xfrm>
                  </p:grpSpPr>
                  <p:sp>
                    <p:nvSpPr>
                      <p:cNvPr id="291" name="Línea 210"/>
                      <p:cNvSpPr/>
                      <p:nvPr/>
                    </p:nvSpPr>
                    <p:spPr>
                      <a:xfrm>
                        <a:off x="4944960" y="4635000"/>
                        <a:ext cx="206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2" name="Línea 211"/>
                      <p:cNvSpPr/>
                      <p:nvPr/>
                    </p:nvSpPr>
                    <p:spPr>
                      <a:xfrm>
                        <a:off x="4944960" y="4772520"/>
                        <a:ext cx="206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93" name="Grupo 212"/>
                  <p:cNvGrpSpPr/>
                  <p:nvPr/>
                </p:nvGrpSpPr>
                <p:grpSpPr>
                  <a:xfrm>
                    <a:off x="3603960" y="5299560"/>
                    <a:ext cx="3243600" cy="962640"/>
                    <a:chOff x="3603960" y="5299560"/>
                    <a:chExt cx="3243600" cy="962640"/>
                  </a:xfrm>
                </p:grpSpPr>
                <p:grpSp>
                  <p:nvGrpSpPr>
                    <p:cNvPr id="294" name="Grupo 213"/>
                    <p:cNvGrpSpPr/>
                    <p:nvPr/>
                  </p:nvGrpSpPr>
                  <p:grpSpPr>
                    <a:xfrm>
                      <a:off x="5357520" y="5299560"/>
                      <a:ext cx="1490040" cy="962640"/>
                      <a:chOff x="5357520" y="5299560"/>
                      <a:chExt cx="1490040" cy="962640"/>
                    </a:xfrm>
                  </p:grpSpPr>
                  <p:grpSp>
                    <p:nvGrpSpPr>
                      <p:cNvPr id="295" name="Grupo 214"/>
                      <p:cNvGrpSpPr/>
                      <p:nvPr/>
                    </p:nvGrpSpPr>
                    <p:grpSpPr>
                      <a:xfrm>
                        <a:off x="5800680" y="5299560"/>
                        <a:ext cx="1046880" cy="962640"/>
                        <a:chOff x="5800680" y="5299560"/>
                        <a:chExt cx="1046880" cy="962640"/>
                      </a:xfrm>
                    </p:grpSpPr>
                    <p:grpSp>
                      <p:nvGrpSpPr>
                        <p:cNvPr id="296" name="Grupo 215"/>
                        <p:cNvGrpSpPr/>
                        <p:nvPr/>
                      </p:nvGrpSpPr>
                      <p:grpSpPr>
                        <a:xfrm>
                          <a:off x="6058800" y="5299560"/>
                          <a:ext cx="788760" cy="962640"/>
                          <a:chOff x="6058800" y="5299560"/>
                          <a:chExt cx="788760" cy="962640"/>
                        </a:xfrm>
                      </p:grpSpPr>
                      <p:grpSp>
                        <p:nvGrpSpPr>
                          <p:cNvPr id="297" name="Grupo 216"/>
                          <p:cNvGrpSpPr/>
                          <p:nvPr/>
                        </p:nvGrpSpPr>
                        <p:grpSpPr>
                          <a:xfrm>
                            <a:off x="6058800" y="5436720"/>
                            <a:ext cx="788760" cy="825480"/>
                            <a:chOff x="6058800" y="5436720"/>
                            <a:chExt cx="788760" cy="825480"/>
                          </a:xfrm>
                        </p:grpSpPr>
                        <p:grpSp>
                          <p:nvGrpSpPr>
                            <p:cNvPr id="298" name="Grupo 217"/>
                            <p:cNvGrpSpPr/>
                            <p:nvPr/>
                          </p:nvGrpSpPr>
                          <p:grpSpPr>
                            <a:xfrm>
                              <a:off x="6575040" y="5953320"/>
                              <a:ext cx="272520" cy="308880"/>
                              <a:chOff x="6575040" y="5953320"/>
                              <a:chExt cx="272520" cy="308880"/>
                            </a:xfrm>
                          </p:grpSpPr>
                          <p:sp>
                            <p:nvSpPr>
                              <p:cNvPr id="299" name="Elipse 218"/>
                              <p:cNvSpPr/>
                              <p:nvPr/>
                            </p:nvSpPr>
                            <p:spPr>
                              <a:xfrm>
                                <a:off x="6575040" y="5953320"/>
                                <a:ext cx="272520" cy="24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0" name="Cuadro de texto 219"/>
                              <p:cNvSpPr/>
                              <p:nvPr/>
                            </p:nvSpPr>
                            <p:spPr>
                              <a:xfrm>
                                <a:off x="6620400" y="5986800"/>
                                <a:ext cx="206280" cy="27540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9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rPr>
                                  <a:t>F</a:t>
                                </a:r>
                                <a:endParaRPr b="0" lang="en-US" sz="9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01" name="Grupo 220"/>
                            <p:cNvGrpSpPr/>
                            <p:nvPr/>
                          </p:nvGrpSpPr>
                          <p:grpSpPr>
                            <a:xfrm>
                              <a:off x="6058800" y="5436720"/>
                              <a:ext cx="606960" cy="549360"/>
                              <a:chOff x="6058800" y="5436720"/>
                              <a:chExt cx="606960" cy="549360"/>
                            </a:xfrm>
                          </p:grpSpPr>
                          <p:grpSp>
                            <p:nvGrpSpPr>
                              <p:cNvPr id="302" name="Grupo 221"/>
                              <p:cNvGrpSpPr/>
                              <p:nvPr/>
                            </p:nvGrpSpPr>
                            <p:grpSpPr>
                              <a:xfrm>
                                <a:off x="6058800" y="5436720"/>
                                <a:ext cx="515880" cy="412560"/>
                                <a:chOff x="6058800" y="5436720"/>
                                <a:chExt cx="515880" cy="412560"/>
                              </a:xfrm>
                            </p:grpSpPr>
                            <p:sp>
                              <p:nvSpPr>
                                <p:cNvPr id="303" name="Autoforma 222"/>
                                <p:cNvSpPr/>
                                <p:nvPr/>
                              </p:nvSpPr>
                              <p:spPr>
                                <a:xfrm rot="10800000">
                                  <a:off x="6058800" y="5436720"/>
                                  <a:ext cx="515880" cy="412560"/>
                                </a:xfrm>
                                <a:prstGeom prst="pentagon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 rot="10800000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4" name="Cuadro de texto 223"/>
                                <p:cNvSpPr/>
                                <p:nvPr/>
                              </p:nvSpPr>
                              <p:spPr>
                                <a:xfrm>
                                  <a:off x="6162120" y="5519160"/>
                                  <a:ext cx="309600" cy="275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s-ES" sz="1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Az</a:t>
                                  </a:r>
                                  <a:endPara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05" name="Grupo 224"/>
                              <p:cNvGrpSpPr/>
                              <p:nvPr/>
                            </p:nvGrpSpPr>
                            <p:grpSpPr>
                              <a:xfrm>
                                <a:off x="6517080" y="5703480"/>
                                <a:ext cx="148680" cy="282600"/>
                                <a:chOff x="6517080" y="5703480"/>
                                <a:chExt cx="148680" cy="282600"/>
                              </a:xfrm>
                            </p:grpSpPr>
                            <p:sp>
                              <p:nvSpPr>
                                <p:cNvPr id="306" name="Línea 225"/>
                                <p:cNvSpPr/>
                                <p:nvPr/>
                              </p:nvSpPr>
                              <p:spPr>
                                <a:xfrm flipH="1" flipV="1">
                                  <a:off x="6517080" y="5865840"/>
                                  <a:ext cx="148680" cy="1202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7" name="Línea 226"/>
                                <p:cNvSpPr/>
                                <p:nvPr/>
                              </p:nvSpPr>
                              <p:spPr>
                                <a:xfrm flipH="1">
                                  <a:off x="6522120" y="5703480"/>
                                  <a:ext cx="41760" cy="181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308" name="Línea 227"/>
                          <p:cNvSpPr/>
                          <p:nvPr/>
                        </p:nvSpPr>
                        <p:spPr>
                          <a:xfrm flipH="1">
                            <a:off x="6471720" y="5299560"/>
                            <a:ext cx="102960" cy="137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09" name="Línea 228"/>
                        <p:cNvSpPr/>
                        <p:nvPr/>
                      </p:nvSpPr>
                      <p:spPr>
                        <a:xfrm>
                          <a:off x="5800680" y="5502600"/>
                          <a:ext cx="266760" cy="185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10" name="Grupo 229"/>
                      <p:cNvGrpSpPr/>
                      <p:nvPr/>
                    </p:nvGrpSpPr>
                    <p:grpSpPr>
                      <a:xfrm>
                        <a:off x="5357520" y="5436360"/>
                        <a:ext cx="495000" cy="275400"/>
                        <a:chOff x="5357520" y="5436360"/>
                        <a:chExt cx="495000" cy="275400"/>
                      </a:xfrm>
                    </p:grpSpPr>
                    <p:sp>
                      <p:nvSpPr>
                        <p:cNvPr id="311" name="Autoforma 230"/>
                        <p:cNvSpPr/>
                        <p:nvPr/>
                      </p:nvSpPr>
                      <p:spPr>
                        <a:xfrm rot="10800000">
                          <a:off x="5357520" y="5436360"/>
                          <a:ext cx="495000" cy="219960"/>
                        </a:xfrm>
                        <a:prstGeom prst="flowChartOnlineStorage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 rot="10800000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Cuadro de texto 231"/>
                        <p:cNvSpPr/>
                        <p:nvPr/>
                      </p:nvSpPr>
                      <p:spPr>
                        <a:xfrm>
                          <a:off x="5460840" y="5436720"/>
                          <a:ext cx="30924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9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13" name="Grupo 232"/>
                    <p:cNvGrpSpPr/>
                    <p:nvPr/>
                  </p:nvGrpSpPr>
                  <p:grpSpPr>
                    <a:xfrm>
                      <a:off x="3603960" y="5299560"/>
                      <a:ext cx="1753560" cy="825120"/>
                      <a:chOff x="3603960" y="5299560"/>
                      <a:chExt cx="1753560" cy="825120"/>
                    </a:xfrm>
                  </p:grpSpPr>
                  <p:grpSp>
                    <p:nvGrpSpPr>
                      <p:cNvPr id="314" name="Grupo 233"/>
                      <p:cNvGrpSpPr/>
                      <p:nvPr/>
                    </p:nvGrpSpPr>
                    <p:grpSpPr>
                      <a:xfrm>
                        <a:off x="3603960" y="5299560"/>
                        <a:ext cx="1547280" cy="825120"/>
                        <a:chOff x="3603960" y="5299560"/>
                        <a:chExt cx="1547280" cy="825120"/>
                      </a:xfrm>
                    </p:grpSpPr>
                    <p:grpSp>
                      <p:nvGrpSpPr>
                        <p:cNvPr id="315" name="Grupo 234"/>
                        <p:cNvGrpSpPr/>
                        <p:nvPr/>
                      </p:nvGrpSpPr>
                      <p:grpSpPr>
                        <a:xfrm>
                          <a:off x="3603960" y="5299560"/>
                          <a:ext cx="1194120" cy="825120"/>
                          <a:chOff x="3603960" y="5299560"/>
                          <a:chExt cx="1194120" cy="825120"/>
                        </a:xfrm>
                      </p:grpSpPr>
                      <p:grpSp>
                        <p:nvGrpSpPr>
                          <p:cNvPr id="316" name="Grupo 235"/>
                          <p:cNvGrpSpPr/>
                          <p:nvPr/>
                        </p:nvGrpSpPr>
                        <p:grpSpPr>
                          <a:xfrm>
                            <a:off x="3603960" y="5299560"/>
                            <a:ext cx="891000" cy="825120"/>
                            <a:chOff x="3603960" y="5299560"/>
                            <a:chExt cx="891000" cy="825120"/>
                          </a:xfrm>
                        </p:grpSpPr>
                        <p:grpSp>
                          <p:nvGrpSpPr>
                            <p:cNvPr id="317" name="Grupo 236"/>
                            <p:cNvGrpSpPr/>
                            <p:nvPr/>
                          </p:nvGrpSpPr>
                          <p:grpSpPr>
                            <a:xfrm>
                              <a:off x="3603960" y="5299560"/>
                              <a:ext cx="272520" cy="308520"/>
                              <a:chOff x="3603960" y="5299560"/>
                              <a:chExt cx="272520" cy="308520"/>
                            </a:xfrm>
                          </p:grpSpPr>
                          <p:sp>
                            <p:nvSpPr>
                              <p:cNvPr id="318" name="Elipse 237"/>
                              <p:cNvSpPr/>
                              <p:nvPr/>
                            </p:nvSpPr>
                            <p:spPr>
                              <a:xfrm>
                                <a:off x="3603960" y="5299560"/>
                                <a:ext cx="272520" cy="24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9" name="Cuadro de texto 238"/>
                              <p:cNvSpPr/>
                              <p:nvPr/>
                            </p:nvSpPr>
                            <p:spPr>
                              <a:xfrm>
                                <a:off x="3649320" y="5333040"/>
                                <a:ext cx="206280" cy="27504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9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rPr>
                                  <a:t>F</a:t>
                                </a:r>
                                <a:endParaRPr b="0" lang="en-US" sz="9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20" name="Grupo 239"/>
                            <p:cNvGrpSpPr/>
                            <p:nvPr/>
                          </p:nvGrpSpPr>
                          <p:grpSpPr>
                            <a:xfrm>
                              <a:off x="3979440" y="5574600"/>
                              <a:ext cx="515520" cy="412920"/>
                              <a:chOff x="3979440" y="5574600"/>
                              <a:chExt cx="515520" cy="412920"/>
                            </a:xfrm>
                          </p:grpSpPr>
                          <p:sp>
                            <p:nvSpPr>
                              <p:cNvPr id="321" name="Autoforma 240"/>
                              <p:cNvSpPr/>
                              <p:nvPr/>
                            </p:nvSpPr>
                            <p:spPr>
                              <a:xfrm>
                                <a:off x="3979440" y="5574600"/>
                                <a:ext cx="515520" cy="412920"/>
                              </a:xfrm>
                              <a:prstGeom prst="pentagon">
                                <a:avLst/>
                              </a:prstGeom>
                              <a:solidFill>
                                <a:srgbClr val="ffff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2" name="Cuadro de texto 241"/>
                              <p:cNvSpPr/>
                              <p:nvPr/>
                            </p:nvSpPr>
                            <p:spPr>
                              <a:xfrm>
                                <a:off x="4082400" y="5712120"/>
                                <a:ext cx="309240" cy="27504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Az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23" name="Grupo 242"/>
                            <p:cNvGrpSpPr/>
                            <p:nvPr/>
                          </p:nvGrpSpPr>
                          <p:grpSpPr>
                            <a:xfrm>
                              <a:off x="3876480" y="5437080"/>
                              <a:ext cx="102960" cy="275040"/>
                              <a:chOff x="3876480" y="5437080"/>
                              <a:chExt cx="102960" cy="275040"/>
                            </a:xfrm>
                          </p:grpSpPr>
                          <p:sp>
                            <p:nvSpPr>
                              <p:cNvPr id="324" name="Línea 243"/>
                              <p:cNvSpPr/>
                              <p:nvPr/>
                            </p:nvSpPr>
                            <p:spPr>
                              <a:xfrm>
                                <a:off x="3876480" y="5437080"/>
                                <a:ext cx="102960" cy="1375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5" name="Línea 244"/>
                              <p:cNvSpPr/>
                              <p:nvPr/>
                            </p:nvSpPr>
                            <p:spPr>
                              <a:xfrm>
                                <a:off x="3979440" y="5574600"/>
                                <a:ext cx="0" cy="1375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26" name="Línea 245"/>
                            <p:cNvSpPr/>
                            <p:nvPr/>
                          </p:nvSpPr>
                          <p:spPr>
                            <a:xfrm flipH="1">
                              <a:off x="3979440" y="5987520"/>
                              <a:ext cx="102960" cy="1371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27" name="Línea 246"/>
                          <p:cNvSpPr/>
                          <p:nvPr/>
                        </p:nvSpPr>
                        <p:spPr>
                          <a:xfrm flipV="1">
                            <a:off x="4501800" y="5561280"/>
                            <a:ext cx="296280" cy="164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8" name="Grupo 247"/>
                        <p:cNvGrpSpPr/>
                        <p:nvPr/>
                      </p:nvGrpSpPr>
                      <p:grpSpPr>
                        <a:xfrm>
                          <a:off x="4738680" y="5437080"/>
                          <a:ext cx="412560" cy="275040"/>
                          <a:chOff x="4738680" y="5437080"/>
                          <a:chExt cx="412560" cy="275040"/>
                        </a:xfrm>
                      </p:grpSpPr>
                      <p:sp>
                        <p:nvSpPr>
                          <p:cNvPr id="329" name="Autoforma 248"/>
                          <p:cNvSpPr/>
                          <p:nvPr/>
                        </p:nvSpPr>
                        <p:spPr>
                          <a:xfrm>
                            <a:off x="4738680" y="5437080"/>
                            <a:ext cx="412560" cy="219960"/>
                          </a:xfrm>
                          <a:prstGeom prst="flowChartDelay">
                            <a:avLst/>
                          </a:prstGeom>
                          <a:solidFill>
                            <a:srgbClr val="c0c0c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0" name="Cuadro de texto 249"/>
                          <p:cNvSpPr/>
                          <p:nvPr/>
                        </p:nvSpPr>
                        <p:spPr>
                          <a:xfrm>
                            <a:off x="4738680" y="5437080"/>
                            <a:ext cx="309240" cy="2750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" sz="9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G</a:t>
                            </a:r>
                            <a:endParaRPr b="0" lang="en-US" sz="9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31" name="Grupo 250"/>
                      <p:cNvGrpSpPr/>
                      <p:nvPr/>
                    </p:nvGrpSpPr>
                    <p:grpSpPr>
                      <a:xfrm>
                        <a:off x="5151240" y="5437080"/>
                        <a:ext cx="206280" cy="208440"/>
                        <a:chOff x="5151240" y="5437080"/>
                        <a:chExt cx="206280" cy="208440"/>
                      </a:xfrm>
                    </p:grpSpPr>
                    <p:sp>
                      <p:nvSpPr>
                        <p:cNvPr id="332" name="Línea 251"/>
                        <p:cNvSpPr/>
                        <p:nvPr/>
                      </p:nvSpPr>
                      <p:spPr>
                        <a:xfrm>
                          <a:off x="5151240" y="543708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3" name="Línea 252"/>
                        <p:cNvSpPr/>
                        <p:nvPr/>
                      </p:nvSpPr>
                      <p:spPr>
                        <a:xfrm>
                          <a:off x="5151240" y="553932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4" name="Línea 253"/>
                        <p:cNvSpPr/>
                        <p:nvPr/>
                      </p:nvSpPr>
                      <p:spPr>
                        <a:xfrm>
                          <a:off x="5151240" y="564552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335" name="Cuadro de texto 254"/>
                <p:cNvSpPr/>
                <p:nvPr/>
              </p:nvSpPr>
              <p:spPr>
                <a:xfrm>
                  <a:off x="5919840" y="1860480"/>
                  <a:ext cx="206280" cy="13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Cuadro de texto 255"/>
                <p:cNvSpPr/>
                <p:nvPr/>
              </p:nvSpPr>
              <p:spPr>
                <a:xfrm>
                  <a:off x="3752640" y="6125400"/>
                  <a:ext cx="2062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" name="Línea 256"/>
              <p:cNvSpPr/>
              <p:nvPr/>
            </p:nvSpPr>
            <p:spPr>
              <a:xfrm>
                <a:off x="2617560" y="2273400"/>
                <a:ext cx="825480" cy="37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ínea 257"/>
              <p:cNvSpPr/>
              <p:nvPr/>
            </p:nvSpPr>
            <p:spPr>
              <a:xfrm>
                <a:off x="6373800" y="2135880"/>
                <a:ext cx="825120" cy="37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upo 258"/>
            <p:cNvGrpSpPr/>
            <p:nvPr/>
          </p:nvGrpSpPr>
          <p:grpSpPr>
            <a:xfrm>
              <a:off x="3587760" y="5300280"/>
              <a:ext cx="1609560" cy="1100520"/>
              <a:chOff x="3587760" y="5300280"/>
              <a:chExt cx="1609560" cy="1100520"/>
            </a:xfrm>
          </p:grpSpPr>
          <p:sp>
            <p:nvSpPr>
              <p:cNvPr id="340" name="Cuadro de texto 259"/>
              <p:cNvSpPr/>
              <p:nvPr/>
            </p:nvSpPr>
            <p:spPr>
              <a:xfrm>
                <a:off x="4474800" y="6125760"/>
                <a:ext cx="7221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Nucleótid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ángulo 260"/>
              <p:cNvSpPr/>
              <p:nvPr/>
            </p:nvSpPr>
            <p:spPr>
              <a:xfrm>
                <a:off x="3587760" y="5300280"/>
                <a:ext cx="1609560" cy="963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Línea 261"/>
            <p:cNvSpPr/>
            <p:nvPr/>
          </p:nvSpPr>
          <p:spPr>
            <a:xfrm flipV="1">
              <a:off x="4991040" y="4061520"/>
              <a:ext cx="0" cy="13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ínea 262"/>
            <p:cNvSpPr/>
            <p:nvPr/>
          </p:nvSpPr>
          <p:spPr>
            <a:xfrm flipV="1">
              <a:off x="4991040" y="4474800"/>
              <a:ext cx="0" cy="13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Imagen 10" descr="http://www.juntadeandalucia.es/averroes/manuales/acidos_nucleicos/trasparencias_an/anucleicos4ico.jpg"/>
          <p:cNvPicPr/>
          <p:nvPr/>
        </p:nvPicPr>
        <p:blipFill>
          <a:blip r:embed="rId1"/>
          <a:stretch/>
        </p:blipFill>
        <p:spPr>
          <a:xfrm>
            <a:off x="2133720" y="304920"/>
            <a:ext cx="49258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adn"/>
          <p:cNvPicPr/>
          <p:nvPr/>
        </p:nvPicPr>
        <p:blipFill>
          <a:blip r:embed="rId1"/>
          <a:stretch/>
        </p:blipFill>
        <p:spPr>
          <a:xfrm>
            <a:off x="838080" y="0"/>
            <a:ext cx="723924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1 CuadroTexto"/>
          <p:cNvSpPr/>
          <p:nvPr/>
        </p:nvSpPr>
        <p:spPr>
          <a:xfrm>
            <a:off x="1261440" y="53352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Rounded MT Bold"/>
              </a:rPr>
              <a:t>REP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3:51:55Z</dcterms:created>
  <dc:creator>Fanny Zirulnik</dc:creator>
  <dc:description/>
  <dc:language>en-US</dc:language>
  <cp:lastModifiedBy>Usuario</cp:lastModifiedBy>
  <dcterms:modified xsi:type="dcterms:W3CDTF">2012-10-24T22:28:36Z</dcterms:modified>
  <cp:revision>106</cp:revision>
  <dc:subject/>
  <dc:title>Diapositiva 1</dc:title>
</cp:coreProperties>
</file>